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5.jpeg" ContentType="image/jpeg"/>
  <Override PartName="/ppt/media/image21.wmf" ContentType="image/x-wmf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2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7102475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102800" cy="1023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5"/>
          </p:nvPr>
        </p:nvSpPr>
        <p:spPr>
          <a:xfrm>
            <a:off x="402228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993240" y="766800"/>
            <a:ext cx="5115240" cy="383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709200" y="485892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0" y="97185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4022280" y="971856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2338-AB80-416D-8DFF-1042F5B9FE97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4022640" y="971856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81B4-43F9-4EBF-962B-D3BDEA1CA13A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93600" y="766800"/>
            <a:ext cx="5115240" cy="38368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09200" y="485892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EE16C-5549-4D5D-8178-137447E367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781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91600"/>
            <a:ext cx="6781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BC805-062F-41BE-82A9-B3661E6546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60880" y="198108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9160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60880" y="389160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DD36D-D577-4F1F-88AF-561A2384E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183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78640" y="1981080"/>
            <a:ext cx="2183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71840" y="1981080"/>
            <a:ext cx="2183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91600"/>
            <a:ext cx="2183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78640" y="3891600"/>
            <a:ext cx="2183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71840" y="3891600"/>
            <a:ext cx="2183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41B1B-9837-45E4-BBFA-17C2187626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A96FE-7DC7-479D-967D-09600E12C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67816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E6C57-63A1-4474-8B70-702F60EC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781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08CE6-DD80-4A1E-8960-D2DCCD26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09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60880" y="1981080"/>
            <a:ext cx="3309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F63553-EF1D-4FC2-BC21-B5ECDC36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7D175-AA6A-44E7-8E40-81FB3B9E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88FD49-313C-4233-BD6E-F5E910BF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60880" y="1981080"/>
            <a:ext cx="3309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9160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D5592-DB5B-4E43-A8DE-968CF47A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67816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0CF3C-C473-46E9-BAE7-1A6B3B43FD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09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60880" y="198108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60880" y="389160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C5028-E32E-4AC2-BEF0-E2C2A647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60880" y="198108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91600"/>
            <a:ext cx="6781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DD448A-8E4C-45B3-9576-41CF9AE2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781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91600"/>
            <a:ext cx="6781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D987F-36DF-455E-9EFE-34EFB159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0880" y="198108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9160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60880" y="389160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3B397-3587-4A89-BD6D-AD61FB967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183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78640" y="1981080"/>
            <a:ext cx="2183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71840" y="1981080"/>
            <a:ext cx="2183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91600"/>
            <a:ext cx="2183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78640" y="3891600"/>
            <a:ext cx="2183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71840" y="3891600"/>
            <a:ext cx="2183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97059-D080-4E18-89BE-400D70173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67816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781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09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160880" y="1981080"/>
            <a:ext cx="3309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781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1E4B5-8A9B-4EDE-A037-C57E82741EE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160880" y="1981080"/>
            <a:ext cx="3309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389160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09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160880" y="198108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160880" y="389160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160880" y="198108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3891600"/>
            <a:ext cx="6781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781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3891600"/>
            <a:ext cx="6781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0880" y="198108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89160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160880" y="389160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183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978640" y="1981080"/>
            <a:ext cx="2183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271840" y="1981080"/>
            <a:ext cx="2183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3891600"/>
            <a:ext cx="2183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2978640" y="3891600"/>
            <a:ext cx="2183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271840" y="3891600"/>
            <a:ext cx="2183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09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60880" y="1981080"/>
            <a:ext cx="3309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BD09B-76C0-4AD9-9BC3-59654D364F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E200E-6853-48D5-9A0E-F012E94C07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9FA34-27BE-4510-83E4-83525C692F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60880" y="1981080"/>
            <a:ext cx="3309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9160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76FA8-9B7A-4B5E-9C79-F9852C04E9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09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60880" y="198108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60880" y="389160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20222-CB32-401A-8A2F-B542F38A29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0880" y="198108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91600"/>
            <a:ext cx="6781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127D9-C2A9-4C5C-9EC2-BD87975E85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3" descr="Folie2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229240" y="6381360"/>
            <a:ext cx="762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235F-561C-448A-AF1B-505840BB71EF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"/>
          <p:cNvSpPr/>
          <p:nvPr/>
        </p:nvSpPr>
        <p:spPr>
          <a:xfrm>
            <a:off x="611280" y="6369120"/>
            <a:ext cx="4103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Bozen| 9. Mai 2018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Text Box 11"/>
          <p:cNvSpPr/>
          <p:nvPr/>
        </p:nvSpPr>
        <p:spPr>
          <a:xfrm>
            <a:off x="5003640" y="6369120"/>
            <a:ext cx="2692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DI Ewald Moser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6781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AFA4-F4B9-46FB-8A2A-2DB5D14C2B8C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3" descr="Folie2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0"/>
          <p:cNvSpPr/>
          <p:nvPr/>
        </p:nvSpPr>
        <p:spPr>
          <a:xfrm>
            <a:off x="611280" y="6369120"/>
            <a:ext cx="4103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Bozen| 9. Mai 2018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5003640" y="6369120"/>
            <a:ext cx="2692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DI Ewald Moser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6781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jpeg"/><Relationship Id="rId10" Type="http://schemas.openxmlformats.org/officeDocument/2006/relationships/image" Target="../media/image14.pn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png"/><Relationship Id="rId15" Type="http://schemas.openxmlformats.org/officeDocument/2006/relationships/image" Target="../media/image19.jpe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liennummernplatzhalter 3"/>
          <p:cNvSpPr/>
          <p:nvPr/>
        </p:nvSpPr>
        <p:spPr>
          <a:xfrm>
            <a:off x="8229600" y="6381720"/>
            <a:ext cx="76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E2C3-FCC9-408A-A357-BB8CE9B09B3C}" type="slidenum">
              <a:rPr b="0" lang="de-DE" sz="11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507960" y="3244680"/>
            <a:ext cx="7943760" cy="27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17320" indent="-5173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rebuchet MS"/>
              </a:rPr>
              <a:t>EU Weißbuch zum Verkehr 2011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17320" indent="-5173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rebuchet MS"/>
              </a:rPr>
              <a:t>„</a:t>
            </a:r>
            <a:r>
              <a:rPr b="1" lang="de-DE" sz="2400" spc="-1" strike="noStrike">
                <a:solidFill>
                  <a:srgbClr val="000000"/>
                </a:solidFill>
                <a:latin typeface="Trebuchet MS"/>
              </a:rPr>
              <a:t>Die Einschränkung von Mobilität ist keine Option.“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17320" indent="-5173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rebuchet MS"/>
              </a:rPr>
              <a:t>EU-Koordinator Pat Cox: „Scan-Med inkl. BBT ist eines der wichtigsten Vorhaben des TEN-V.“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17320" indent="-5173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17320" indent="-5173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rebuchet MS"/>
              </a:rPr>
              <a:t>Verkehrsverlagerung von Straße auf die Schiene ist ein Hauptziel der (Europäischen) Verkehrspolitik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366920" y="747720"/>
            <a:ext cx="5681520" cy="20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70c0"/>
                </a:solidFill>
                <a:latin typeface="Trebuchet MS"/>
              </a:rPr>
              <a:t>Südtiroler Landtag</a:t>
            </a:r>
            <a:br>
              <a:rPr sz="3600"/>
            </a:br>
            <a:r>
              <a:rPr b="1" lang="de-DE" sz="3600" spc="-1" strike="noStrike">
                <a:solidFill>
                  <a:srgbClr val="0070c0"/>
                </a:solidFill>
                <a:latin typeface="Trebuchet MS"/>
              </a:rPr>
              <a:t>Europadebatt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70c0"/>
                </a:solidFill>
                <a:latin typeface="Trebuchet MS"/>
              </a:rPr>
              <a:t>„</a:t>
            </a:r>
            <a:r>
              <a:rPr b="1" lang="de-DE" sz="3600" spc="-1" strike="noStrike">
                <a:solidFill>
                  <a:srgbClr val="0070c0"/>
                </a:solidFill>
                <a:latin typeface="Trebuchet MS"/>
              </a:rPr>
              <a:t>Transit und Verkehr“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liennummernplatzhalter 1"/>
          <p:cNvSpPr/>
          <p:nvPr/>
        </p:nvSpPr>
        <p:spPr>
          <a:xfrm>
            <a:off x="8229600" y="6381720"/>
            <a:ext cx="76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9FE2-4CA8-4D2C-AB0D-791DFC76EE12}" type="slidenum">
              <a:rPr b="0" lang="de-DE" sz="11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204840" y="1574640"/>
            <a:ext cx="8772480" cy="45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lvl="1" marL="637560" indent="-265680">
              <a:lnSpc>
                <a:spcPct val="80000"/>
              </a:lnSpc>
              <a:spcBef>
                <a:spcPts val="45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ahntrassenpreise / Autobahnmaut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(Korridormaut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37560" indent="-265680">
              <a:lnSpc>
                <a:spcPct val="80000"/>
              </a:lnSpc>
              <a:spcBef>
                <a:spcPts val="2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1" marL="637560" indent="-26568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Kostenwahrheit: Internalisierung externer Kosten / Mautzuschläg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37560" indent="-265680">
              <a:lnSpc>
                <a:spcPct val="80000"/>
              </a:lnSpc>
              <a:spcBef>
                <a:spcPts val="2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1" marL="637560" indent="-26568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Treibstoffkosten / Steuer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37560" indent="-265680">
              <a:lnSpc>
                <a:spcPct val="80000"/>
              </a:lnSpc>
              <a:spcBef>
                <a:spcPts val="2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1" marL="637560" indent="-26568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Förderungen (KV, RoLa u.a.)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37560" indent="-26568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ärmschutzmaßnahmen im Schienenbereich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37560" indent="-265680">
              <a:lnSpc>
                <a:spcPct val="80000"/>
              </a:lnSpc>
              <a:spcBef>
                <a:spcPts val="2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1" marL="637560" indent="-265680">
              <a:lnSpc>
                <a:spcPct val="80000"/>
              </a:lnSpc>
              <a:spcBef>
                <a:spcPts val="45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Verkehrsbeschränkungen und Kontrollen</a:t>
            </a:r>
            <a:br>
              <a:rPr sz="20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(z.B. in Tirol: Nachtfahrverbot, Verbot für schadstoffreiche Lkw, Sektorales Fahrverbot, Überholverbote, Tempo Limits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37560" indent="-265680">
              <a:lnSpc>
                <a:spcPct val="80000"/>
              </a:lnSpc>
              <a:spcBef>
                <a:spcPts val="2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1" marL="637560" indent="-265680">
              <a:lnSpc>
                <a:spcPct val="80000"/>
              </a:lnSpc>
              <a:spcBef>
                <a:spcPts val="45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kw-Dosiersystem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(Kapazität, Verkehrs- und Versorgungssicherheit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37560" indent="-265680">
              <a:lnSpc>
                <a:spcPct val="80000"/>
              </a:lnSpc>
              <a:spcBef>
                <a:spcPts val="2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1" marL="637560" indent="-265680">
              <a:lnSpc>
                <a:spcPct val="80000"/>
              </a:lnSpc>
              <a:spcBef>
                <a:spcPts val="45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Verkehrsmanagementsysteme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(Toll+, Alpentransitbörse, Emissionshandel)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37560" indent="-265680">
              <a:lnSpc>
                <a:spcPct val="80000"/>
              </a:lnSpc>
              <a:spcBef>
                <a:spcPts val="2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1" marL="637560" indent="-26568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ntelligente Verkehrssystem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37560" indent="-265680">
              <a:lnSpc>
                <a:spcPct val="80000"/>
              </a:lnSpc>
              <a:spcBef>
                <a:spcPts val="2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1" marL="637560" indent="-26568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2038320" y="393840"/>
            <a:ext cx="5913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rebuchet MS"/>
              </a:rPr>
              <a:t>Begleitmaßnahmen</a:t>
            </a:r>
            <a:br>
              <a:rPr sz="2800"/>
            </a:br>
            <a:r>
              <a:rPr b="1" lang="de-DE" sz="2000" spc="-1" strike="noStrike">
                <a:solidFill>
                  <a:srgbClr val="000000"/>
                </a:solidFill>
                <a:latin typeface="Trebuchet MS"/>
              </a:rPr>
              <a:t>zur Güterverkehrsinfrastuktu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rebuchet MS"/>
              </a:rPr>
              <a:t>Inhalt des Aktionsplans Brenner der BC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7" descr=""/>
          <p:cNvPicPr/>
          <p:nvPr/>
        </p:nvPicPr>
        <p:blipFill>
          <a:blip r:embed="rId1"/>
          <a:stretch/>
        </p:blipFill>
        <p:spPr>
          <a:xfrm>
            <a:off x="1933560" y="1746360"/>
            <a:ext cx="6026040" cy="43624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9"/>
          <p:cNvSpPr/>
          <p:nvPr/>
        </p:nvSpPr>
        <p:spPr>
          <a:xfrm>
            <a:off x="1747800" y="262080"/>
            <a:ext cx="672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kehrsverlagerung = Stärkung der Schiene (Infrastruktur u. Interoperabilität inkl. Terminals) + Begleitmaßnahmen in Zusammenarbeit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Foliennummernplatzhalter 1"/>
          <p:cNvSpPr/>
          <p:nvPr/>
        </p:nvSpPr>
        <p:spPr>
          <a:xfrm>
            <a:off x="8229600" y="6381720"/>
            <a:ext cx="76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2EF4-0B70-4A32-89D2-80DB04D8AD6A}" type="slidenum">
              <a:rPr b="0" lang="de-DE" sz="11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liennummernplatzhalter 3"/>
          <p:cNvSpPr/>
          <p:nvPr/>
        </p:nvSpPr>
        <p:spPr>
          <a:xfrm>
            <a:off x="8229600" y="6381720"/>
            <a:ext cx="76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DDB9-6C15-42ED-9F2F-31E8F4E9CE3B}" type="slidenum">
              <a:rPr b="0" lang="de-DE" sz="11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Content Placeholder 2" descr=""/>
          <p:cNvPicPr/>
          <p:nvPr/>
        </p:nvPicPr>
        <p:blipFill>
          <a:blip r:embed="rId1"/>
          <a:stretch/>
        </p:blipFill>
        <p:spPr>
          <a:xfrm>
            <a:off x="4307040" y="0"/>
            <a:ext cx="4836960" cy="6845400"/>
          </a:xfrm>
          <a:prstGeom prst="rect">
            <a:avLst/>
          </a:prstGeom>
          <a:ln w="0">
            <a:noFill/>
          </a:ln>
        </p:spPr>
      </p:pic>
      <p:sp>
        <p:nvSpPr>
          <p:cNvPr id="134" name="Title 1"/>
          <p:cNvSpPr/>
          <p:nvPr/>
        </p:nvSpPr>
        <p:spPr>
          <a:xfrm>
            <a:off x="4307040" y="5765760"/>
            <a:ext cx="48369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f5494"/>
                </a:solidFill>
                <a:latin typeface="Verdana"/>
              </a:rPr>
              <a:t>Skandinavischer – Mediterraner Korridor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Content Placeholder 3" descr=""/>
          <p:cNvPicPr/>
          <p:nvPr/>
        </p:nvPicPr>
        <p:blipFill>
          <a:blip r:embed="rId2"/>
          <a:srcRect l="0" t="0" r="4519" b="0"/>
          <a:stretch/>
        </p:blipFill>
        <p:spPr>
          <a:xfrm>
            <a:off x="0" y="9360"/>
            <a:ext cx="4284720" cy="5002200"/>
          </a:xfrm>
          <a:prstGeom prst="rect">
            <a:avLst/>
          </a:prstGeom>
          <a:ln w="0">
            <a:noFill/>
          </a:ln>
        </p:spPr>
      </p:pic>
      <p:sp>
        <p:nvSpPr>
          <p:cNvPr id="136" name="Title 1"/>
          <p:cNvSpPr/>
          <p:nvPr/>
        </p:nvSpPr>
        <p:spPr>
          <a:xfrm>
            <a:off x="399960" y="4465800"/>
            <a:ext cx="36403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f5494"/>
                </a:solidFill>
                <a:latin typeface="Verdana"/>
              </a:rPr>
              <a:t>10 Kernnetzkorridor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142920" y="4971960"/>
            <a:ext cx="3884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TEN-V Leitlinien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CEF Co-Finanzierung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Brenner Korridor mit </a:t>
            </a:r>
            <a:br>
              <a:rPr sz="1600"/>
            </a:b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BBT u. Zulaufstrecken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2992320" y="114480"/>
            <a:ext cx="24148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EUROPA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0" y="11160"/>
            <a:ext cx="9151920" cy="6846840"/>
          </a:xfrm>
          <a:prstGeom prst="rect">
            <a:avLst/>
          </a:prstGeom>
          <a:ln w="0">
            <a:noFill/>
          </a:ln>
        </p:spPr>
      </p:pic>
      <p:sp>
        <p:nvSpPr>
          <p:cNvPr id="140" name="Textfeld 3"/>
          <p:cNvSpPr/>
          <p:nvPr/>
        </p:nvSpPr>
        <p:spPr>
          <a:xfrm>
            <a:off x="4788000" y="3433680"/>
            <a:ext cx="216036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Foliennummernplatzhalter 1"/>
          <p:cNvSpPr/>
          <p:nvPr/>
        </p:nvSpPr>
        <p:spPr>
          <a:xfrm>
            <a:off x="8229600" y="6381720"/>
            <a:ext cx="76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A7DE-A5F7-40FF-9805-525237324F39}" type="slidenum">
              <a:rPr b="0" lang="de-DE" sz="11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2687760" y="5000760"/>
            <a:ext cx="59115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Personenzug 120-&gt;47 min / Güterzug 180-&gt;90 mi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feld 4"/>
          <p:cNvSpPr/>
          <p:nvPr/>
        </p:nvSpPr>
        <p:spPr>
          <a:xfrm>
            <a:off x="488880" y="1635120"/>
            <a:ext cx="2206800" cy="353160"/>
          </a:xfrm>
          <a:prstGeom prst="rect">
            <a:avLst/>
          </a:prstGeom>
          <a:noFill/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rebuchet MS"/>
              </a:rPr>
              <a:t>Leader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Textfeld 8"/>
          <p:cNvSpPr/>
          <p:nvPr/>
        </p:nvSpPr>
        <p:spPr>
          <a:xfrm>
            <a:off x="6300720" y="1635120"/>
            <a:ext cx="2173320" cy="353160"/>
          </a:xfrm>
          <a:prstGeom prst="rect">
            <a:avLst/>
          </a:prstGeom>
          <a:noFill/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rebuchet MS"/>
              </a:rPr>
              <a:t>Meetings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Textfeld 13"/>
          <p:cNvSpPr/>
          <p:nvPr/>
        </p:nvSpPr>
        <p:spPr>
          <a:xfrm>
            <a:off x="1982880" y="331920"/>
            <a:ext cx="424332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EUSALP AG4 Mobility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Textfeld 14"/>
          <p:cNvSpPr/>
          <p:nvPr/>
        </p:nvSpPr>
        <p:spPr>
          <a:xfrm>
            <a:off x="3406680" y="1635120"/>
            <a:ext cx="2190960" cy="353160"/>
          </a:xfrm>
          <a:prstGeom prst="rect">
            <a:avLst/>
          </a:prstGeom>
          <a:noFill/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rebuchet MS"/>
              </a:rPr>
              <a:t>Members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7" name="Grafik 2" descr=""/>
          <p:cNvPicPr/>
          <p:nvPr/>
        </p:nvPicPr>
        <p:blipFill>
          <a:blip r:embed="rId1"/>
          <a:stretch/>
        </p:blipFill>
        <p:spPr>
          <a:xfrm>
            <a:off x="488880" y="2773440"/>
            <a:ext cx="2156040" cy="826920"/>
          </a:xfrm>
          <a:prstGeom prst="rect">
            <a:avLst/>
          </a:prstGeom>
          <a:ln w="0">
            <a:noFill/>
          </a:ln>
        </p:spPr>
      </p:pic>
      <p:pic>
        <p:nvPicPr>
          <p:cNvPr id="148" name="Grafik 3" descr=""/>
          <p:cNvPicPr/>
          <p:nvPr/>
        </p:nvPicPr>
        <p:blipFill>
          <a:blip r:embed="rId2"/>
          <a:stretch/>
        </p:blipFill>
        <p:spPr>
          <a:xfrm>
            <a:off x="1031760" y="4357800"/>
            <a:ext cx="939960" cy="963360"/>
          </a:xfrm>
          <a:prstGeom prst="rect">
            <a:avLst/>
          </a:prstGeom>
          <a:ln w="0">
            <a:noFill/>
          </a:ln>
        </p:spPr>
      </p:pic>
      <p:cxnSp>
        <p:nvCxnSpPr>
          <p:cNvPr id="149" name="Gerade Verbindung mit Pfeil 7"/>
          <p:cNvCxnSpPr/>
          <p:nvPr/>
        </p:nvCxnSpPr>
        <p:spPr>
          <a:xfrm>
            <a:off x="1591920" y="2015640"/>
            <a:ext cx="1080" cy="65484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arrow" w="med"/>
          </a:ln>
        </p:spPr>
      </p:cxnSp>
      <p:cxnSp>
        <p:nvCxnSpPr>
          <p:cNvPr id="150" name="Gerade Verbindung mit Pfeil 17"/>
          <p:cNvCxnSpPr/>
          <p:nvPr/>
        </p:nvCxnSpPr>
        <p:spPr>
          <a:xfrm>
            <a:off x="1566360" y="3752640"/>
            <a:ext cx="1080" cy="43884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arrow" w="med"/>
          </a:ln>
        </p:spPr>
      </p:cxnSp>
      <p:sp>
        <p:nvSpPr>
          <p:cNvPr id="151" name="Textfeld 20"/>
          <p:cNvSpPr/>
          <p:nvPr/>
        </p:nvSpPr>
        <p:spPr>
          <a:xfrm>
            <a:off x="3406680" y="3435480"/>
            <a:ext cx="2183040" cy="688320"/>
          </a:xfrm>
          <a:prstGeom prst="rect">
            <a:avLst/>
          </a:prstGeom>
          <a:noFill/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15 Regions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Textfeld 21"/>
          <p:cNvSpPr/>
          <p:nvPr/>
        </p:nvSpPr>
        <p:spPr>
          <a:xfrm>
            <a:off x="3416400" y="4162320"/>
            <a:ext cx="2195280" cy="871560"/>
          </a:xfrm>
          <a:prstGeom prst="rect">
            <a:avLst/>
          </a:prstGeom>
          <a:noFill/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3 Observers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Textfeld 22"/>
          <p:cNvSpPr/>
          <p:nvPr/>
        </p:nvSpPr>
        <p:spPr>
          <a:xfrm>
            <a:off x="3416400" y="5154480"/>
            <a:ext cx="2190600" cy="871560"/>
          </a:xfrm>
          <a:prstGeom prst="rect">
            <a:avLst/>
          </a:prstGeom>
          <a:noFill/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3 Civil Society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54" name="Gruppieren 23"/>
          <p:cNvGrpSpPr/>
          <p:nvPr/>
        </p:nvGrpSpPr>
        <p:grpSpPr>
          <a:xfrm>
            <a:off x="3387600" y="2693880"/>
            <a:ext cx="2219400" cy="371520"/>
            <a:chOff x="3387600" y="2693880"/>
            <a:chExt cx="2219400" cy="371520"/>
          </a:xfrm>
        </p:grpSpPr>
        <p:pic>
          <p:nvPicPr>
            <p:cNvPr id="155" name="Picture 7" descr=""/>
            <p:cNvPicPr/>
            <p:nvPr/>
          </p:nvPicPr>
          <p:blipFill>
            <a:blip r:embed="rId3"/>
            <a:stretch/>
          </p:blipFill>
          <p:spPr>
            <a:xfrm>
              <a:off x="5130720" y="2741040"/>
              <a:ext cx="476280" cy="3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3" descr=""/>
            <p:cNvPicPr/>
            <p:nvPr/>
          </p:nvPicPr>
          <p:blipFill>
            <a:blip r:embed="rId4"/>
            <a:srcRect l="5596" t="0" r="0" b="8371"/>
            <a:stretch/>
          </p:blipFill>
          <p:spPr>
            <a:xfrm>
              <a:off x="3855960" y="2693880"/>
              <a:ext cx="467640" cy="36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" descr=""/>
            <p:cNvPicPr/>
            <p:nvPr/>
          </p:nvPicPr>
          <p:blipFill>
            <a:blip r:embed="rId5"/>
            <a:srcRect l="1587" t="0" r="0" b="9254"/>
            <a:stretch/>
          </p:blipFill>
          <p:spPr>
            <a:xfrm>
              <a:off x="3387600" y="2730240"/>
              <a:ext cx="468360" cy="32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5" descr=""/>
            <p:cNvPicPr/>
            <p:nvPr/>
          </p:nvPicPr>
          <p:blipFill>
            <a:blip r:embed="rId6"/>
            <a:srcRect l="0" t="0" r="0" b="5724"/>
            <a:stretch/>
          </p:blipFill>
          <p:spPr>
            <a:xfrm>
              <a:off x="4725000" y="2750760"/>
              <a:ext cx="476280" cy="31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6" descr=""/>
            <p:cNvPicPr/>
            <p:nvPr/>
          </p:nvPicPr>
          <p:blipFill>
            <a:blip r:embed="rId7"/>
            <a:stretch/>
          </p:blipFill>
          <p:spPr>
            <a:xfrm>
              <a:off x="4271760" y="2746080"/>
              <a:ext cx="485640" cy="31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Textfeld 34"/>
          <p:cNvSpPr/>
          <p:nvPr/>
        </p:nvSpPr>
        <p:spPr>
          <a:xfrm>
            <a:off x="3398760" y="2359080"/>
            <a:ext cx="2198880" cy="871560"/>
          </a:xfrm>
          <a:prstGeom prst="rect">
            <a:avLst/>
          </a:prstGeom>
          <a:noFill/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6 National States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61" name="Gruppieren 24"/>
          <p:cNvGrpSpPr/>
          <p:nvPr/>
        </p:nvGrpSpPr>
        <p:grpSpPr>
          <a:xfrm>
            <a:off x="3479760" y="4535640"/>
            <a:ext cx="2068560" cy="431640"/>
            <a:chOff x="3479760" y="4535640"/>
            <a:chExt cx="2068560" cy="431640"/>
          </a:xfrm>
        </p:grpSpPr>
        <p:pic>
          <p:nvPicPr>
            <p:cNvPr id="162" name="Picture 8" descr=""/>
            <p:cNvPicPr/>
            <p:nvPr/>
          </p:nvPicPr>
          <p:blipFill>
            <a:blip r:embed="rId8"/>
            <a:stretch/>
          </p:blipFill>
          <p:spPr>
            <a:xfrm>
              <a:off x="3479760" y="4535640"/>
              <a:ext cx="62424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10" descr="Bildergebnis für Logo Alpenkonvention"/>
            <p:cNvPicPr/>
            <p:nvPr/>
          </p:nvPicPr>
          <p:blipFill>
            <a:blip r:embed="rId9"/>
            <a:srcRect l="15021" t="0" r="16715" b="43773"/>
            <a:stretch/>
          </p:blipFill>
          <p:spPr>
            <a:xfrm>
              <a:off x="4104000" y="4535640"/>
              <a:ext cx="76968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14" descr="Ähnliches Foto"/>
            <p:cNvPicPr/>
            <p:nvPr/>
          </p:nvPicPr>
          <p:blipFill>
            <a:blip r:embed="rId10"/>
            <a:stretch/>
          </p:blipFill>
          <p:spPr>
            <a:xfrm>
              <a:off x="4959360" y="4535640"/>
              <a:ext cx="588960" cy="43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5" name="Picture 16" descr="Bildergebnis für Logo Cipra international"/>
          <p:cNvPicPr/>
          <p:nvPr/>
        </p:nvPicPr>
        <p:blipFill>
          <a:blip r:embed="rId11"/>
          <a:stretch/>
        </p:blipFill>
        <p:spPr>
          <a:xfrm>
            <a:off x="3443400" y="5697360"/>
            <a:ext cx="755640" cy="276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0" descr="Bildergebnis für Logo Central European Initiative"/>
          <p:cNvPicPr/>
          <p:nvPr/>
        </p:nvPicPr>
        <p:blipFill>
          <a:blip r:embed="rId12"/>
          <a:stretch/>
        </p:blipFill>
        <p:spPr>
          <a:xfrm>
            <a:off x="4273560" y="5661000"/>
            <a:ext cx="689040" cy="366840"/>
          </a:xfrm>
          <a:prstGeom prst="rect">
            <a:avLst/>
          </a:prstGeom>
          <a:ln w="0">
            <a:noFill/>
          </a:ln>
        </p:spPr>
      </p:pic>
      <p:sp>
        <p:nvSpPr>
          <p:cNvPr id="167" name="Textfeld 43"/>
          <p:cNvSpPr/>
          <p:nvPr/>
        </p:nvSpPr>
        <p:spPr>
          <a:xfrm>
            <a:off x="6300720" y="2359080"/>
            <a:ext cx="2183040" cy="612360"/>
          </a:xfrm>
          <a:prstGeom prst="rect">
            <a:avLst/>
          </a:prstGeom>
          <a:noFill/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3 Action Group Meetings / year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Textfeld 44"/>
          <p:cNvSpPr/>
          <p:nvPr/>
        </p:nvSpPr>
        <p:spPr>
          <a:xfrm>
            <a:off x="6296040" y="3235320"/>
            <a:ext cx="2182680" cy="1130760"/>
          </a:xfrm>
          <a:prstGeom prst="rect">
            <a:avLst/>
          </a:prstGeom>
          <a:noFill/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Annual Mobility Conference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69" name="Grafik 25" descr=""/>
          <p:cNvPicPr/>
          <p:nvPr/>
        </p:nvPicPr>
        <p:blipFill>
          <a:blip r:embed="rId13"/>
          <a:stretch/>
        </p:blipFill>
        <p:spPr>
          <a:xfrm>
            <a:off x="6732720" y="3803760"/>
            <a:ext cx="1309680" cy="557280"/>
          </a:xfrm>
          <a:prstGeom prst="rect">
            <a:avLst/>
          </a:prstGeom>
          <a:ln w="0">
            <a:noFill/>
          </a:ln>
        </p:spPr>
      </p:pic>
      <p:sp>
        <p:nvSpPr>
          <p:cNvPr id="170" name="Textfeld 51"/>
          <p:cNvSpPr/>
          <p:nvPr/>
        </p:nvSpPr>
        <p:spPr>
          <a:xfrm>
            <a:off x="6300720" y="4626000"/>
            <a:ext cx="2183040" cy="612360"/>
          </a:xfrm>
          <a:prstGeom prst="rect">
            <a:avLst/>
          </a:prstGeom>
          <a:noFill/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Trebuchet MS"/>
              </a:rPr>
              <a:t>20</a:t>
            </a:r>
            <a:r>
              <a:rPr b="0" i="1" lang="en-GB" sz="1700" spc="-1" strike="noStrike" baseline="30000">
                <a:solidFill>
                  <a:srgbClr val="000000"/>
                </a:solidFill>
                <a:latin typeface="Trebuchet MS"/>
              </a:rPr>
              <a:t>th</a:t>
            </a:r>
            <a:r>
              <a:rPr b="0" i="1" lang="en-GB" sz="1700" spc="-1" strike="noStrike">
                <a:solidFill>
                  <a:srgbClr val="000000"/>
                </a:solidFill>
                <a:latin typeface="Trebuchet MS"/>
              </a:rPr>
              <a:t> June 2018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Trebuchet MS"/>
              </a:rPr>
              <a:t>Trento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Foliennummernplatzhalter 9"/>
          <p:cNvSpPr/>
          <p:nvPr/>
        </p:nvSpPr>
        <p:spPr>
          <a:xfrm>
            <a:off x="8229600" y="6381720"/>
            <a:ext cx="76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BD44-894A-496C-8270-09B5F1AD2B60}" type="slidenum">
              <a:rPr b="0" lang="de-AT" sz="11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4"/>
          <a:stretch/>
        </p:blipFill>
        <p:spPr>
          <a:xfrm>
            <a:off x="4973760" y="5754600"/>
            <a:ext cx="790560" cy="230400"/>
          </a:xfrm>
          <a:prstGeom prst="rect">
            <a:avLst/>
          </a:prstGeom>
          <a:ln w="0">
            <a:noFill/>
          </a:ln>
        </p:spPr>
      </p:pic>
      <p:pic>
        <p:nvPicPr>
          <p:cNvPr id="173" name="Grafik 31" descr=""/>
          <p:cNvPicPr/>
          <p:nvPr/>
        </p:nvPicPr>
        <p:blipFill>
          <a:blip r:embed="rId15"/>
          <a:stretch/>
        </p:blipFill>
        <p:spPr>
          <a:xfrm>
            <a:off x="6226200" y="125280"/>
            <a:ext cx="19857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feld 4"/>
          <p:cNvSpPr/>
          <p:nvPr/>
        </p:nvSpPr>
        <p:spPr>
          <a:xfrm>
            <a:off x="577800" y="1571760"/>
            <a:ext cx="2292480" cy="353160"/>
          </a:xfrm>
          <a:prstGeom prst="rect">
            <a:avLst/>
          </a:prstGeom>
          <a:noFill/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rebuchet MS"/>
              </a:rPr>
              <a:t>Mission</a:t>
            </a: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Textfeld 8"/>
          <p:cNvSpPr/>
          <p:nvPr/>
        </p:nvSpPr>
        <p:spPr>
          <a:xfrm>
            <a:off x="6280200" y="1571760"/>
            <a:ext cx="2495520" cy="353160"/>
          </a:xfrm>
          <a:prstGeom prst="rect">
            <a:avLst/>
          </a:prstGeom>
          <a:noFill/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rebuchet MS"/>
              </a:rPr>
              <a:t>Work Plan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Textfeld 13"/>
          <p:cNvSpPr/>
          <p:nvPr/>
        </p:nvSpPr>
        <p:spPr>
          <a:xfrm>
            <a:off x="1801800" y="336600"/>
            <a:ext cx="497988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EUSALP AG4 Mobilit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Work Programm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Textfeld 14"/>
          <p:cNvSpPr/>
          <p:nvPr/>
        </p:nvSpPr>
        <p:spPr>
          <a:xfrm>
            <a:off x="3425760" y="1571760"/>
            <a:ext cx="2292480" cy="353160"/>
          </a:xfrm>
          <a:prstGeom prst="rect">
            <a:avLst/>
          </a:prstGeom>
          <a:noFill/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rebuchet MS"/>
              </a:rPr>
              <a:t>Specific Objectives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Textfeld 46"/>
          <p:cNvSpPr/>
          <p:nvPr/>
        </p:nvSpPr>
        <p:spPr>
          <a:xfrm>
            <a:off x="3425760" y="4827600"/>
            <a:ext cx="2292480" cy="824040"/>
          </a:xfrm>
          <a:prstGeom prst="rect">
            <a:avLst/>
          </a:prstGeom>
          <a:noFill/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3. To develop cooperation and greater integration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Textfeld 36"/>
          <p:cNvSpPr/>
          <p:nvPr/>
        </p:nvSpPr>
        <p:spPr>
          <a:xfrm>
            <a:off x="577800" y="2590920"/>
            <a:ext cx="2292480" cy="1067400"/>
          </a:xfrm>
          <a:prstGeom prst="rect">
            <a:avLst/>
          </a:prstGeom>
          <a:noFill/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Platform to coordinate and harmonise the activitie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Textfeld 37"/>
          <p:cNvSpPr/>
          <p:nvPr/>
        </p:nvSpPr>
        <p:spPr>
          <a:xfrm>
            <a:off x="3425760" y="2590920"/>
            <a:ext cx="2292480" cy="1310760"/>
          </a:xfrm>
          <a:prstGeom prst="rect">
            <a:avLst/>
          </a:prstGeom>
          <a:noFill/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1. Promote inter-modality and interoperability in passenger and freight transport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Textfeld 38"/>
          <p:cNvSpPr/>
          <p:nvPr/>
        </p:nvSpPr>
        <p:spPr>
          <a:xfrm>
            <a:off x="577800" y="3489480"/>
            <a:ext cx="2292480" cy="1067400"/>
          </a:xfrm>
          <a:prstGeom prst="rect">
            <a:avLst/>
          </a:prstGeom>
          <a:noFill/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Build a common understanding of transport policy and mobility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Textfeld 39"/>
          <p:cNvSpPr/>
          <p:nvPr/>
        </p:nvSpPr>
        <p:spPr>
          <a:xfrm>
            <a:off x="577800" y="4611600"/>
            <a:ext cx="2292480" cy="1067400"/>
          </a:xfrm>
          <a:prstGeom prst="rect">
            <a:avLst/>
          </a:prstGeom>
          <a:noFill/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efine common objectives and to launch specific activities and project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Textfeld 40"/>
          <p:cNvSpPr/>
          <p:nvPr/>
        </p:nvSpPr>
        <p:spPr>
          <a:xfrm>
            <a:off x="3425760" y="3965400"/>
            <a:ext cx="2292480" cy="824040"/>
          </a:xfrm>
          <a:prstGeom prst="rect">
            <a:avLst/>
          </a:prstGeom>
          <a:noFill/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2. To support the modal shift from road to rai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Textfeld 41"/>
          <p:cNvSpPr/>
          <p:nvPr/>
        </p:nvSpPr>
        <p:spPr>
          <a:xfrm>
            <a:off x="6254640" y="3257640"/>
            <a:ext cx="2521080" cy="824040"/>
          </a:xfrm>
          <a:prstGeom prst="rect">
            <a:avLst/>
          </a:prstGeom>
          <a:noFill/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B - Implementation of modal shift policies with a focus on toll systems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Textfeld 42"/>
          <p:cNvSpPr/>
          <p:nvPr/>
        </p:nvSpPr>
        <p:spPr>
          <a:xfrm>
            <a:off x="6264360" y="4267080"/>
            <a:ext cx="2511360" cy="580680"/>
          </a:xfrm>
          <a:prstGeom prst="rect">
            <a:avLst/>
          </a:prstGeom>
          <a:noFill/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rebuchet MS"/>
              </a:rPr>
              <a:t>C - Infrastructure for sustainable transport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Textfeld 45"/>
          <p:cNvSpPr/>
          <p:nvPr/>
        </p:nvSpPr>
        <p:spPr>
          <a:xfrm>
            <a:off x="6280200" y="5073480"/>
            <a:ext cx="2495520" cy="824040"/>
          </a:xfrm>
          <a:prstGeom prst="rect">
            <a:avLst/>
          </a:prstGeom>
          <a:noFill/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rebuchet MS"/>
              </a:rPr>
              <a:t>D - Interconnecting public transport systems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Textfeld 47"/>
          <p:cNvSpPr/>
          <p:nvPr/>
        </p:nvSpPr>
        <p:spPr>
          <a:xfrm>
            <a:off x="6257880" y="2590920"/>
            <a:ext cx="2517840" cy="337320"/>
          </a:xfrm>
          <a:prstGeom prst="rect">
            <a:avLst/>
          </a:prstGeom>
          <a:noFill/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 - Cross topic initiative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Foliennummernplatzhalter 5"/>
          <p:cNvSpPr/>
          <p:nvPr/>
        </p:nvSpPr>
        <p:spPr>
          <a:xfrm>
            <a:off x="8229600" y="6381720"/>
            <a:ext cx="76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D284-A8BF-4CC3-97E7-09E455C4B842}" type="slidenum">
              <a:rPr b="0" lang="de-AT" sz="11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9" name="Grafik 16" descr=""/>
          <p:cNvPicPr/>
          <p:nvPr/>
        </p:nvPicPr>
        <p:blipFill>
          <a:blip r:embed="rId1"/>
          <a:stretch/>
        </p:blipFill>
        <p:spPr>
          <a:xfrm>
            <a:off x="6781680" y="512640"/>
            <a:ext cx="2156040" cy="8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liennummernplatzhalter 1"/>
          <p:cNvSpPr/>
          <p:nvPr/>
        </p:nvSpPr>
        <p:spPr>
          <a:xfrm>
            <a:off x="8229600" y="6381720"/>
            <a:ext cx="76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5114-872B-4317-BFDF-0418FA316C9B}" type="slidenum">
              <a:rPr b="0" lang="de-DE" sz="11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2241720" y="476280"/>
            <a:ext cx="440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rebuchet MS"/>
              </a:rPr>
              <a:t>Vergleich der Alpenpäss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2717640" y="938160"/>
            <a:ext cx="3113280" cy="13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Trebuchet MS"/>
              </a:rPr>
              <a:t>Brenner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rebuchet MS"/>
              </a:rPr>
              <a:t>≈ </a:t>
            </a:r>
            <a:r>
              <a:rPr b="0" lang="de-DE" sz="2200" spc="-1" strike="noStrike">
                <a:solidFill>
                  <a:srgbClr val="000000"/>
                </a:solidFill>
                <a:latin typeface="Trebuchet MS"/>
              </a:rPr>
              <a:t>Frankreich + Italie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rebuchet MS"/>
              </a:rPr>
              <a:t>&gt; Schweiz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3" name="Diagramm 6" descr=""/>
          <p:cNvPicPr/>
          <p:nvPr/>
        </p:nvPicPr>
        <p:blipFill>
          <a:blip r:embed="rId1"/>
          <a:stretch/>
        </p:blipFill>
        <p:spPr>
          <a:xfrm>
            <a:off x="219240" y="2249640"/>
            <a:ext cx="868680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6"/>
          <p:cNvSpPr/>
          <p:nvPr/>
        </p:nvSpPr>
        <p:spPr>
          <a:xfrm>
            <a:off x="2244600" y="482760"/>
            <a:ext cx="43610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rebuchet MS"/>
              </a:rPr>
              <a:t>Lkw-Routenwahl 2009 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Gotthard, Brenner und Tauern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6300720" y="3995640"/>
            <a:ext cx="26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Umwegfahrten vor allem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am Brenner und 97 % &gt; 300 k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Foliennummernplatzhalter 1"/>
          <p:cNvSpPr/>
          <p:nvPr/>
        </p:nvSpPr>
        <p:spPr>
          <a:xfrm>
            <a:off x="8229600" y="6381720"/>
            <a:ext cx="76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0B0E-3520-4182-B6DC-FDBF0F5C537C}" type="slidenum">
              <a:rPr b="0" lang="de-DE" sz="11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673200" y="1631880"/>
            <a:ext cx="5470560" cy="42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liennummernplatzhalter 1"/>
          <p:cNvSpPr/>
          <p:nvPr/>
        </p:nvSpPr>
        <p:spPr>
          <a:xfrm>
            <a:off x="8229600" y="6381720"/>
            <a:ext cx="76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4EEB-FDE4-4695-A2B0-93EBC3827164}" type="slidenum">
              <a:rPr b="0" lang="de-DE" sz="11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9" name="Picture 2" descr="C:\Users\u0278165\Documents\Daten\brenner1.jpg"/>
          <p:cNvPicPr/>
          <p:nvPr/>
        </p:nvPicPr>
        <p:blipFill>
          <a:blip r:embed="rId1"/>
          <a:stretch/>
        </p:blipFill>
        <p:spPr>
          <a:xfrm>
            <a:off x="-7920" y="0"/>
            <a:ext cx="915192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liennummernplatzhalter 1"/>
          <p:cNvSpPr/>
          <p:nvPr/>
        </p:nvSpPr>
        <p:spPr>
          <a:xfrm>
            <a:off x="8229600" y="6381720"/>
            <a:ext cx="76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C176-94DE-4850-AEBF-10E41A9AE83B}" type="slidenum">
              <a:rPr b="0" lang="de-DE" sz="11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1" name="Diagramm 5" descr=""/>
          <p:cNvPicPr/>
          <p:nvPr/>
        </p:nvPicPr>
        <p:blipFill>
          <a:blip r:embed="rId1"/>
          <a:stretch/>
        </p:blipFill>
        <p:spPr>
          <a:xfrm>
            <a:off x="171360" y="1822320"/>
            <a:ext cx="8326440" cy="415152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6"/>
          <p:cNvSpPr/>
          <p:nvPr/>
        </p:nvSpPr>
        <p:spPr>
          <a:xfrm>
            <a:off x="2244600" y="482760"/>
            <a:ext cx="4361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rebuchet MS"/>
              </a:rPr>
              <a:t>Lkw-Transitverkehr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A13 Mautstelle Schönber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10:14:58Z</dcterms:created>
  <dc:creator>Meilera</dc:creator>
  <dc:description/>
  <dc:language>en-US</dc:language>
  <cp:lastModifiedBy>MOSER Ewald</cp:lastModifiedBy>
  <cp:lastPrinted>2013-03-19T13:24:26Z</cp:lastPrinted>
  <dcterms:modified xsi:type="dcterms:W3CDTF">2018-05-09T08:18:51Z</dcterms:modified>
  <cp:revision>135</cp:revision>
  <dc:subject/>
  <dc:title>Folie 1</dc:title>
</cp:coreProperties>
</file>