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5.jpeg" ContentType="image/jpeg"/>
  <Override PartName="/ppt/media/image2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93240" y="766800"/>
            <a:ext cx="511524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F458-FDF4-4A66-BE61-EEEEE913ACA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0982-6DA7-4F57-8388-CFB433A5D0F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3600" y="766800"/>
            <a:ext cx="5115240" cy="3836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332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1EC3-AFB5-4B4E-8038-3C0904FA0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6C71-73FD-40F1-9AE1-895FAB0CB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843A-756F-4F6D-956B-DFE3C27A0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786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718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786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718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2DDA-8516-47D1-B0C5-F0FBC9DC2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45B1C-B4CB-4607-AAF8-1304FC62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CEDFF-B9FB-4CE6-9F72-E0F25329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84412-2A5F-4741-8D12-7A131827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D9675-FCE3-4466-8BE3-0E75A871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DC08D-EA3F-442C-8955-A0ABD8CE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FF9C8-BE5A-4299-86F5-E04B9592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DFC8F-5987-4E42-9FA4-0A21288C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A551-22F4-45BF-82C3-BC233BFBC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2D407-16FE-4FB0-BF42-70F3B1F3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0B417-56C4-4C3D-A92E-F0774C5E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DA219-4D80-4290-906D-A086ED9D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26930-F7FB-4416-9427-DF588254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786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18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786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718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4F946-562B-4BB5-8E5A-C2E01C85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BA13-F5EB-40C9-BE65-1E3F3BB23B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9786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271840" y="198108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9786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271840" y="3891600"/>
            <a:ext cx="2183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9FA5-1A98-48F7-8601-9C2AD0AB1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D25F-2B3B-4EE6-8E3D-86AED877B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364B-57CE-45F0-8B39-D06CCAE0C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52B9-C165-4B94-8F7F-029FED301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0880" y="389160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8A4A-B477-4B54-972E-9A79E7C3F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0880" y="1981080"/>
            <a:ext cx="3309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91600"/>
            <a:ext cx="6781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A016-318D-4449-8689-34FB8828E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Folie2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229240" y="6381360"/>
            <a:ext cx="762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9A72-6214-49CC-B5BB-80CC0ED97B96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611280" y="6369120"/>
            <a:ext cx="410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ozen| 9. Mai 2018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5003640" y="6369120"/>
            <a:ext cx="269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DI Ewald Mose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0970-9091-4B62-80BB-13573AB2C7FD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3" descr="Folie2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611280" y="6369120"/>
            <a:ext cx="410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rebuchet MS"/>
              </a:rPr>
              <a:t>Bozen| 9. Mai 2018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5003640" y="6369120"/>
            <a:ext cx="2692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rebuchet MS"/>
              </a:rPr>
              <a:t>DI Ewald Mose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png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liennummernplatzhalter 3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696B-3D45-49D3-A7A0-063CF4C0F1BB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07960" y="3244680"/>
            <a:ext cx="794376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EU Weißbuch zum Verkehr 2011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Die Einschränkung von Mobilität ist keine Option.“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EU-Koordinator Pat Cox: „Scan-Med inkl. BBT ist eines der wichtigsten Vorhaben des TEN-V.“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7320" indent="-517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rebuchet MS"/>
              </a:rPr>
              <a:t>Verkehrsverlagerung von Straße auf die Schiene ist ein Hauptziel der (Europäischen) Verkehrspolitik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66920" y="747720"/>
            <a:ext cx="568152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70c0"/>
                </a:solidFill>
                <a:latin typeface="Trebuchet MS"/>
              </a:rPr>
              <a:t>Südtiroler Landtag</a:t>
            </a:r>
            <a:br>
              <a:rPr sz="3600"/>
            </a:br>
            <a:r>
              <a:rPr b="1" lang="de-DE" sz="3600" spc="-1" strike="noStrike">
                <a:solidFill>
                  <a:srgbClr val="0070c0"/>
                </a:solidFill>
                <a:latin typeface="Trebuchet MS"/>
              </a:rPr>
              <a:t>Europadebat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70c0"/>
                </a:solidFill>
                <a:latin typeface="Trebuchet MS"/>
              </a:rPr>
              <a:t>„</a:t>
            </a:r>
            <a:r>
              <a:rPr b="1" lang="de-DE" sz="3600" spc="-1" strike="noStrike">
                <a:solidFill>
                  <a:srgbClr val="0070c0"/>
                </a:solidFill>
                <a:latin typeface="Trebuchet MS"/>
              </a:rPr>
              <a:t>Transit und Verkehr“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8A2-A92C-4718-9C46-2460594BB85D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04840" y="1574640"/>
            <a:ext cx="877248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37560" indent="-26568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ahntrassenpreise / Autobahnmau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Korridormaut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stenwahrheit: Internalisierung externer Kosten / Mautzuschlä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eibstoffkosten / Steuer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örderungen (KV, RoLa u.a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ärmschutzmaßnahmen im Schienenberei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kehrsbeschränkungen und Kontrollen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z.B. in Tirol: Nachtfahrverbot, Verbot für schadstoffreiche Lkw, Sektorales Fahrverbot, Überholverbote, Tempo Limit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kw-Dosiersyste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Kapazität, Verkehrs- und Versorgungssicherheit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kehrsmanagementsystem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Toll+, Alpentransitbörse, Emissionshandel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telligente Verkehrssyste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2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637560" indent="-26568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2038320" y="393840"/>
            <a:ext cx="5913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rebuchet MS"/>
              </a:rPr>
              <a:t>Begleitmaßnahmen</a:t>
            </a:r>
            <a:br>
              <a:rPr sz="2800"/>
            </a:b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zur Güterverkehrsinfrastuktu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Inhalt des Aktionsplans Brenner der BC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1933560" y="1746360"/>
            <a:ext cx="6026040" cy="4362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9"/>
          <p:cNvSpPr/>
          <p:nvPr/>
        </p:nvSpPr>
        <p:spPr>
          <a:xfrm>
            <a:off x="1747800" y="262080"/>
            <a:ext cx="67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kehrsverlagerung = Stärkung der Schiene (Infrastruktur u. Interoperabilität inkl. Terminals) + Begleitmaßnahmen in Zusammenarbeit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13EA-0C83-49E7-B3A5-CCF639D242A9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liennummernplatzhalter 3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32E1-FD15-4802-A0DD-FB271E846F98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Content Placeholder 2" descr=""/>
          <p:cNvPicPr/>
          <p:nvPr/>
        </p:nvPicPr>
        <p:blipFill>
          <a:blip r:embed="rId1"/>
          <a:stretch/>
        </p:blipFill>
        <p:spPr>
          <a:xfrm>
            <a:off x="4307040" y="0"/>
            <a:ext cx="4836960" cy="6845400"/>
          </a:xfrm>
          <a:prstGeom prst="rect">
            <a:avLst/>
          </a:prstGeom>
          <a:ln w="0">
            <a:noFill/>
          </a:ln>
        </p:spPr>
      </p:pic>
      <p:sp>
        <p:nvSpPr>
          <p:cNvPr id="134" name="Title 1"/>
          <p:cNvSpPr/>
          <p:nvPr/>
        </p:nvSpPr>
        <p:spPr>
          <a:xfrm>
            <a:off x="4307040" y="5765760"/>
            <a:ext cx="48369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Skandinavischer – Mediterraner Korrido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Content Placeholder 3" descr=""/>
          <p:cNvPicPr/>
          <p:nvPr/>
        </p:nvPicPr>
        <p:blipFill>
          <a:blip r:embed="rId2"/>
          <a:srcRect l="0" t="0" r="4519" b="0"/>
          <a:stretch/>
        </p:blipFill>
        <p:spPr>
          <a:xfrm>
            <a:off x="0" y="9360"/>
            <a:ext cx="4284720" cy="5002200"/>
          </a:xfrm>
          <a:prstGeom prst="rect">
            <a:avLst/>
          </a:prstGeom>
          <a:ln w="0">
            <a:noFill/>
          </a:ln>
        </p:spPr>
      </p:pic>
      <p:sp>
        <p:nvSpPr>
          <p:cNvPr id="136" name="Title 1"/>
          <p:cNvSpPr/>
          <p:nvPr/>
        </p:nvSpPr>
        <p:spPr>
          <a:xfrm>
            <a:off x="399960" y="4465800"/>
            <a:ext cx="36403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f5494"/>
                </a:solidFill>
                <a:latin typeface="Verdana"/>
              </a:rPr>
              <a:t>10 Kernnetzkorridor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2920" y="4971960"/>
            <a:ext cx="3884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TEN-V Leitlin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EF Co-Finanzieru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Brenner Korridor mit </a:t>
            </a:r>
            <a:br>
              <a:rPr sz="1600"/>
            </a:b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BBT u. Zulaufstreck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992320" y="114480"/>
            <a:ext cx="2414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UROP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0" y="11160"/>
            <a:ext cx="9151920" cy="6846840"/>
          </a:xfrm>
          <a:prstGeom prst="rect">
            <a:avLst/>
          </a:prstGeom>
          <a:ln w="0">
            <a:noFill/>
          </a:ln>
        </p:spPr>
      </p:pic>
      <p:sp>
        <p:nvSpPr>
          <p:cNvPr id="140" name="Textfeld 3"/>
          <p:cNvSpPr/>
          <p:nvPr/>
        </p:nvSpPr>
        <p:spPr>
          <a:xfrm>
            <a:off x="4788000" y="3433680"/>
            <a:ext cx="21603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90D-30A7-4F72-97EB-69ED2B24BD2B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687760" y="5000760"/>
            <a:ext cx="5911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ersonenzug 120-&gt;47 min / Güterzug 180-&gt;90 m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feld 4"/>
          <p:cNvSpPr/>
          <p:nvPr/>
        </p:nvSpPr>
        <p:spPr>
          <a:xfrm>
            <a:off x="488880" y="1635120"/>
            <a:ext cx="220680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Leade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Textfeld 8"/>
          <p:cNvSpPr/>
          <p:nvPr/>
        </p:nvSpPr>
        <p:spPr>
          <a:xfrm>
            <a:off x="6300720" y="1635120"/>
            <a:ext cx="217332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Meeting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Textfeld 13"/>
          <p:cNvSpPr/>
          <p:nvPr/>
        </p:nvSpPr>
        <p:spPr>
          <a:xfrm>
            <a:off x="1982880" y="331920"/>
            <a:ext cx="424332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EUSALP AG4 Mobility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Textfeld 14"/>
          <p:cNvSpPr/>
          <p:nvPr/>
        </p:nvSpPr>
        <p:spPr>
          <a:xfrm>
            <a:off x="3406680" y="1635120"/>
            <a:ext cx="219096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Member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"/>
          <a:stretch/>
        </p:blipFill>
        <p:spPr>
          <a:xfrm>
            <a:off x="488880" y="2773440"/>
            <a:ext cx="2156040" cy="826920"/>
          </a:xfrm>
          <a:prstGeom prst="rect">
            <a:avLst/>
          </a:prstGeom>
          <a:ln w="0">
            <a:noFill/>
          </a:ln>
        </p:spPr>
      </p:pic>
      <p:pic>
        <p:nvPicPr>
          <p:cNvPr id="148" name="Grafik 3" descr=""/>
          <p:cNvPicPr/>
          <p:nvPr/>
        </p:nvPicPr>
        <p:blipFill>
          <a:blip r:embed="rId2"/>
          <a:stretch/>
        </p:blipFill>
        <p:spPr>
          <a:xfrm>
            <a:off x="1031760" y="4357800"/>
            <a:ext cx="939960" cy="963360"/>
          </a:xfrm>
          <a:prstGeom prst="rect">
            <a:avLst/>
          </a:prstGeom>
          <a:ln w="0">
            <a:noFill/>
          </a:ln>
        </p:spPr>
      </p:pic>
      <p:cxnSp>
        <p:nvCxnSpPr>
          <p:cNvPr id="149" name="Gerade Verbindung mit Pfeil 7"/>
          <p:cNvCxnSpPr/>
          <p:nvPr/>
        </p:nvCxnSpPr>
        <p:spPr>
          <a:xfrm>
            <a:off x="1591920" y="2015640"/>
            <a:ext cx="1080" cy="65484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arrow" w="med"/>
          </a:ln>
        </p:spPr>
      </p:cxnSp>
      <p:cxnSp>
        <p:nvCxnSpPr>
          <p:cNvPr id="150" name="Gerade Verbindung mit Pfeil 17"/>
          <p:cNvCxnSpPr/>
          <p:nvPr/>
        </p:nvCxnSpPr>
        <p:spPr>
          <a:xfrm>
            <a:off x="1566360" y="3752640"/>
            <a:ext cx="1080" cy="438840"/>
          </a:xfrm>
          <a:prstGeom prst="straightConnector1">
            <a:avLst/>
          </a:prstGeom>
          <a:ln w="9360">
            <a:solidFill>
              <a:srgbClr val="bfbfbf"/>
            </a:solidFill>
            <a:miter/>
            <a:tailEnd len="med" type="arrow" w="med"/>
          </a:ln>
        </p:spPr>
      </p:cxnSp>
      <p:sp>
        <p:nvSpPr>
          <p:cNvPr id="151" name="Textfeld 20"/>
          <p:cNvSpPr/>
          <p:nvPr/>
        </p:nvSpPr>
        <p:spPr>
          <a:xfrm>
            <a:off x="3406680" y="3435480"/>
            <a:ext cx="2183040" cy="68832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15 Region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Textfeld 21"/>
          <p:cNvSpPr/>
          <p:nvPr/>
        </p:nvSpPr>
        <p:spPr>
          <a:xfrm>
            <a:off x="3416400" y="4162320"/>
            <a:ext cx="2195280" cy="8715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3 Observer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Textfeld 22"/>
          <p:cNvSpPr/>
          <p:nvPr/>
        </p:nvSpPr>
        <p:spPr>
          <a:xfrm>
            <a:off x="3416400" y="5154480"/>
            <a:ext cx="2190600" cy="8715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3 Civil Societ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54" name="Gruppieren 23"/>
          <p:cNvGrpSpPr/>
          <p:nvPr/>
        </p:nvGrpSpPr>
        <p:grpSpPr>
          <a:xfrm>
            <a:off x="3387600" y="2693880"/>
            <a:ext cx="2219400" cy="371520"/>
            <a:chOff x="3387600" y="2693880"/>
            <a:chExt cx="2219400" cy="371520"/>
          </a:xfrm>
        </p:grpSpPr>
        <p:pic>
          <p:nvPicPr>
            <p:cNvPr id="155" name="Picture 7" descr=""/>
            <p:cNvPicPr/>
            <p:nvPr/>
          </p:nvPicPr>
          <p:blipFill>
            <a:blip r:embed="rId3"/>
            <a:stretch/>
          </p:blipFill>
          <p:spPr>
            <a:xfrm>
              <a:off x="5130720" y="2741040"/>
              <a:ext cx="47628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4"/>
            <a:srcRect l="5596" t="0" r="0" b="8371"/>
            <a:stretch/>
          </p:blipFill>
          <p:spPr>
            <a:xfrm>
              <a:off x="3855960" y="2693880"/>
              <a:ext cx="467640" cy="36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"/>
            <p:cNvPicPr/>
            <p:nvPr/>
          </p:nvPicPr>
          <p:blipFill>
            <a:blip r:embed="rId5"/>
            <a:srcRect l="1587" t="0" r="0" b="9254"/>
            <a:stretch/>
          </p:blipFill>
          <p:spPr>
            <a:xfrm>
              <a:off x="3387600" y="2730240"/>
              <a:ext cx="468360" cy="3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" descr=""/>
            <p:cNvPicPr/>
            <p:nvPr/>
          </p:nvPicPr>
          <p:blipFill>
            <a:blip r:embed="rId6"/>
            <a:srcRect l="0" t="0" r="0" b="5724"/>
            <a:stretch/>
          </p:blipFill>
          <p:spPr>
            <a:xfrm>
              <a:off x="4725000" y="2750760"/>
              <a:ext cx="476280" cy="3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"/>
            <p:cNvPicPr/>
            <p:nvPr/>
          </p:nvPicPr>
          <p:blipFill>
            <a:blip r:embed="rId7"/>
            <a:stretch/>
          </p:blipFill>
          <p:spPr>
            <a:xfrm>
              <a:off x="4271760" y="2746080"/>
              <a:ext cx="48564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Textfeld 34"/>
          <p:cNvSpPr/>
          <p:nvPr/>
        </p:nvSpPr>
        <p:spPr>
          <a:xfrm>
            <a:off x="3398760" y="2359080"/>
            <a:ext cx="2198880" cy="8715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6 National State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1" name="Gruppieren 24"/>
          <p:cNvGrpSpPr/>
          <p:nvPr/>
        </p:nvGrpSpPr>
        <p:grpSpPr>
          <a:xfrm>
            <a:off x="3479760" y="4535640"/>
            <a:ext cx="2068560" cy="431640"/>
            <a:chOff x="3479760" y="4535640"/>
            <a:chExt cx="2068560" cy="431640"/>
          </a:xfrm>
        </p:grpSpPr>
        <p:pic>
          <p:nvPicPr>
            <p:cNvPr id="162" name="Picture 8" descr=""/>
            <p:cNvPicPr/>
            <p:nvPr/>
          </p:nvPicPr>
          <p:blipFill>
            <a:blip r:embed="rId8"/>
            <a:stretch/>
          </p:blipFill>
          <p:spPr>
            <a:xfrm>
              <a:off x="3479760" y="4535640"/>
              <a:ext cx="6242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0" descr="Bildergebnis für Logo Alpenkonvention"/>
            <p:cNvPicPr/>
            <p:nvPr/>
          </p:nvPicPr>
          <p:blipFill>
            <a:blip r:embed="rId9"/>
            <a:srcRect l="15021" t="0" r="16715" b="43773"/>
            <a:stretch/>
          </p:blipFill>
          <p:spPr>
            <a:xfrm>
              <a:off x="4104000" y="4535640"/>
              <a:ext cx="7696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4" descr="Ähnliches Foto"/>
            <p:cNvPicPr/>
            <p:nvPr/>
          </p:nvPicPr>
          <p:blipFill>
            <a:blip r:embed="rId10"/>
            <a:stretch/>
          </p:blipFill>
          <p:spPr>
            <a:xfrm>
              <a:off x="4959360" y="4535640"/>
              <a:ext cx="58896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16" descr="Bildergebnis für Logo Cipra international"/>
          <p:cNvPicPr/>
          <p:nvPr/>
        </p:nvPicPr>
        <p:blipFill>
          <a:blip r:embed="rId11"/>
          <a:stretch/>
        </p:blipFill>
        <p:spPr>
          <a:xfrm>
            <a:off x="3443400" y="5697360"/>
            <a:ext cx="755640" cy="276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Bildergebnis für Logo Central European Initiative"/>
          <p:cNvPicPr/>
          <p:nvPr/>
        </p:nvPicPr>
        <p:blipFill>
          <a:blip r:embed="rId12"/>
          <a:stretch/>
        </p:blipFill>
        <p:spPr>
          <a:xfrm>
            <a:off x="4273560" y="5661000"/>
            <a:ext cx="68904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Textfeld 43"/>
          <p:cNvSpPr/>
          <p:nvPr/>
        </p:nvSpPr>
        <p:spPr>
          <a:xfrm>
            <a:off x="6300720" y="2359080"/>
            <a:ext cx="2183040" cy="6123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3 Action Group Meetings / yea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feld 44"/>
          <p:cNvSpPr/>
          <p:nvPr/>
        </p:nvSpPr>
        <p:spPr>
          <a:xfrm>
            <a:off x="6296040" y="3235320"/>
            <a:ext cx="2182680" cy="11307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Annual Mobility Conference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9" name="Grafik 25" descr=""/>
          <p:cNvPicPr/>
          <p:nvPr/>
        </p:nvPicPr>
        <p:blipFill>
          <a:blip r:embed="rId13"/>
          <a:stretch/>
        </p:blipFill>
        <p:spPr>
          <a:xfrm>
            <a:off x="6732720" y="3803760"/>
            <a:ext cx="1309680" cy="557280"/>
          </a:xfrm>
          <a:prstGeom prst="rect">
            <a:avLst/>
          </a:prstGeom>
          <a:ln w="0">
            <a:noFill/>
          </a:ln>
        </p:spPr>
      </p:pic>
      <p:sp>
        <p:nvSpPr>
          <p:cNvPr id="170" name="Textfeld 51"/>
          <p:cNvSpPr/>
          <p:nvPr/>
        </p:nvSpPr>
        <p:spPr>
          <a:xfrm>
            <a:off x="6300720" y="4626000"/>
            <a:ext cx="2183040" cy="6123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20</a:t>
            </a:r>
            <a:r>
              <a:rPr b="0" i="1" lang="en-GB" sz="17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 June 2018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Trebuchet MS"/>
              </a:rPr>
              <a:t>Trento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Foliennummernplatzhalter 9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FB5C-1BE2-40EC-92B6-CE06085C3C65}" type="slidenum">
              <a:rPr b="0" lang="de-AT" sz="11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4"/>
          <a:stretch/>
        </p:blipFill>
        <p:spPr>
          <a:xfrm>
            <a:off x="4973760" y="5754600"/>
            <a:ext cx="790560" cy="23040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31" descr=""/>
          <p:cNvPicPr/>
          <p:nvPr/>
        </p:nvPicPr>
        <p:blipFill>
          <a:blip r:embed="rId15"/>
          <a:stretch/>
        </p:blipFill>
        <p:spPr>
          <a:xfrm>
            <a:off x="6226200" y="125280"/>
            <a:ext cx="1985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4"/>
          <p:cNvSpPr/>
          <p:nvPr/>
        </p:nvSpPr>
        <p:spPr>
          <a:xfrm>
            <a:off x="577800" y="1571760"/>
            <a:ext cx="229248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Mission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Textfeld 8"/>
          <p:cNvSpPr/>
          <p:nvPr/>
        </p:nvSpPr>
        <p:spPr>
          <a:xfrm>
            <a:off x="6280200" y="1571760"/>
            <a:ext cx="249552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Work Plan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Textfeld 13"/>
          <p:cNvSpPr/>
          <p:nvPr/>
        </p:nvSpPr>
        <p:spPr>
          <a:xfrm>
            <a:off x="1801800" y="336600"/>
            <a:ext cx="49798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EUSALP AG4 Mo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  <a:ea typeface="ＭＳ Ｐゴシック"/>
              </a:rPr>
              <a:t>Work Programm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Textfeld 14"/>
          <p:cNvSpPr/>
          <p:nvPr/>
        </p:nvSpPr>
        <p:spPr>
          <a:xfrm>
            <a:off x="3425760" y="1571760"/>
            <a:ext cx="2292480" cy="3531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Specific Objectives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Textfeld 46"/>
          <p:cNvSpPr/>
          <p:nvPr/>
        </p:nvSpPr>
        <p:spPr>
          <a:xfrm>
            <a:off x="3425760" y="4827600"/>
            <a:ext cx="2292480" cy="82404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3. To develop cooperation and greater integr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Textfeld 36"/>
          <p:cNvSpPr/>
          <p:nvPr/>
        </p:nvSpPr>
        <p:spPr>
          <a:xfrm>
            <a:off x="577800" y="2590920"/>
            <a:ext cx="2292480" cy="106740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latform to coordinate and harmonise the activit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Textfeld 37"/>
          <p:cNvSpPr/>
          <p:nvPr/>
        </p:nvSpPr>
        <p:spPr>
          <a:xfrm>
            <a:off x="3425760" y="2590920"/>
            <a:ext cx="2292480" cy="131076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. Promote inter-modality and interoperability in passenger and freight transport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Textfeld 38"/>
          <p:cNvSpPr/>
          <p:nvPr/>
        </p:nvSpPr>
        <p:spPr>
          <a:xfrm>
            <a:off x="577800" y="3489480"/>
            <a:ext cx="2292480" cy="106740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uild a common understanding of transport policy and mobilit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Textfeld 39"/>
          <p:cNvSpPr/>
          <p:nvPr/>
        </p:nvSpPr>
        <p:spPr>
          <a:xfrm>
            <a:off x="577800" y="4611600"/>
            <a:ext cx="2292480" cy="106740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 common objectives and to launch specific activities and project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Textfeld 40"/>
          <p:cNvSpPr/>
          <p:nvPr/>
        </p:nvSpPr>
        <p:spPr>
          <a:xfrm>
            <a:off x="3425760" y="3965400"/>
            <a:ext cx="2292480" cy="82404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 To support the modal shift from road to rai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Textfeld 41"/>
          <p:cNvSpPr/>
          <p:nvPr/>
        </p:nvSpPr>
        <p:spPr>
          <a:xfrm>
            <a:off x="6254640" y="3257640"/>
            <a:ext cx="2521080" cy="82404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 - Implementation of modal shift policies with a focus on toll system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Textfeld 42"/>
          <p:cNvSpPr/>
          <p:nvPr/>
        </p:nvSpPr>
        <p:spPr>
          <a:xfrm>
            <a:off x="6264360" y="4267080"/>
            <a:ext cx="2511360" cy="58068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C - Infrastructure for sustainable transport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Textfeld 45"/>
          <p:cNvSpPr/>
          <p:nvPr/>
        </p:nvSpPr>
        <p:spPr>
          <a:xfrm>
            <a:off x="6280200" y="5073480"/>
            <a:ext cx="2495520" cy="82404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D - Interconnecting public transport system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Textfeld 47"/>
          <p:cNvSpPr/>
          <p:nvPr/>
        </p:nvSpPr>
        <p:spPr>
          <a:xfrm>
            <a:off x="6257880" y="2590920"/>
            <a:ext cx="2517840" cy="337320"/>
          </a:xfrm>
          <a:prstGeom prst="rect">
            <a:avLst/>
          </a:prstGeom>
          <a:noFill/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 - Cross topic initiativ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Foliennummernplatzhalter 5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761A-73A8-4079-A160-F4BF2A5EAC11}" type="slidenum">
              <a:rPr b="0" lang="de-AT" sz="11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9" name="Grafik 16" descr=""/>
          <p:cNvPicPr/>
          <p:nvPr/>
        </p:nvPicPr>
        <p:blipFill>
          <a:blip r:embed="rId1"/>
          <a:stretch/>
        </p:blipFill>
        <p:spPr>
          <a:xfrm>
            <a:off x="6781680" y="512640"/>
            <a:ext cx="215604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FE25-24B9-4E2E-99D4-10C1E98EA923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241720" y="476280"/>
            <a:ext cx="440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rebuchet MS"/>
              </a:rPr>
              <a:t>Vergleich der Alpenpäs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717640" y="938160"/>
            <a:ext cx="311328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rebuchet MS"/>
              </a:rPr>
              <a:t>Brenn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rebuchet MS"/>
              </a:rPr>
              <a:t>≈ </a:t>
            </a:r>
            <a:r>
              <a:rPr b="0" lang="de-DE" sz="2200" spc="-1" strike="noStrike">
                <a:solidFill>
                  <a:srgbClr val="000000"/>
                </a:solidFill>
                <a:latin typeface="Trebuchet MS"/>
              </a:rPr>
              <a:t>Frankreich + Itali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rebuchet MS"/>
              </a:rPr>
              <a:t>&gt; Schwei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3" name="Diagramm 6" descr=""/>
          <p:cNvPicPr/>
          <p:nvPr/>
        </p:nvPicPr>
        <p:blipFill>
          <a:blip r:embed="rId1"/>
          <a:stretch/>
        </p:blipFill>
        <p:spPr>
          <a:xfrm>
            <a:off x="219240" y="2249640"/>
            <a:ext cx="86868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6"/>
          <p:cNvSpPr/>
          <p:nvPr/>
        </p:nvSpPr>
        <p:spPr>
          <a:xfrm>
            <a:off x="2244600" y="482760"/>
            <a:ext cx="4361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rebuchet MS"/>
              </a:rPr>
              <a:t>Lkw-Routenwahl 2009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Gotthard, Brenner und Tauer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300720" y="399564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Umwegfahrten vor allem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am Brenner und 97 % &gt; 300 k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364B-C7C1-4BE2-BD8F-91BDF6E2F544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73200" y="1631880"/>
            <a:ext cx="54705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2154-826A-450C-BEC3-B46ABC123D0A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9" name="Picture 2" descr="C:\Users\u0278165\Documents\Daten\brenner1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liennummernplatzhalter 1"/>
          <p:cNvSpPr/>
          <p:nvPr/>
        </p:nvSpPr>
        <p:spPr>
          <a:xfrm>
            <a:off x="8229600" y="6381720"/>
            <a:ext cx="76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2AB2-AE37-496A-87BF-0602D84FDAB9}" type="slidenum">
              <a:rPr b="0" lang="de-DE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1" name="Diagramm 5" descr=""/>
          <p:cNvPicPr/>
          <p:nvPr/>
        </p:nvPicPr>
        <p:blipFill>
          <a:blip r:embed="rId1"/>
          <a:stretch/>
        </p:blipFill>
        <p:spPr>
          <a:xfrm>
            <a:off x="171360" y="1822320"/>
            <a:ext cx="8326440" cy="41515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2244600" y="482760"/>
            <a:ext cx="4361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rebuchet MS"/>
              </a:rPr>
              <a:t>Lkw-Transitverkehr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A13 Mautstelle Schönber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0:14:58Z</dcterms:created>
  <dc:creator>Meilera</dc:creator>
  <dc:description/>
  <dc:language>en-US</dc:language>
  <cp:lastModifiedBy>MOSER Ewald</cp:lastModifiedBy>
  <cp:lastPrinted>2013-03-19T13:24:26Z</cp:lastPrinted>
  <dcterms:modified xsi:type="dcterms:W3CDTF">2018-05-09T08:18:51Z</dcterms:modified>
  <cp:revision>135</cp:revision>
  <dc:subject/>
  <dc:title>Folie 1</dc:title>
</cp:coreProperties>
</file>