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8944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30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84660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38462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7330-0BA0-4C11-ADDD-877457DD9D54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F663B-3803-428B-8FE0-1DD8FA7D6849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9CB38-DA4A-495B-BA6A-D96AD9CDB6C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6F5BB-CE2A-441A-BEBB-F7BD9E93574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F4E63-EF03-41B4-AC26-FD67C22BE4AF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E0BD-4C19-4199-8A7E-3EE9ADE447A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F5C25-B7FC-407C-8041-F89D0BB60408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89440" cy="3706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230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46449-1F17-413F-82D8-4A07265ABE7F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63132-1E55-4056-97DB-194A81F2846E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00E7-B172-4BDE-B704-E40EDCEA412B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07916-10F5-46EE-9F93-FD6915656D64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E00C8-9D2C-4114-AECB-AE45E6671900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3D4F5-BFDB-40F9-BF7B-6EA5898F70A9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71B22-A205-4C3C-890E-E65519955139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C5B67-23A7-4E49-B13F-532BB9A9AA2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5400" y="754200"/>
            <a:ext cx="6591240" cy="3708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24480" cy="44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1A973-969B-438A-B821-AE37ABDDD259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C6573-A128-459E-839D-3BF7983C73A4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B1771-A734-4574-85C0-982581021A2C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1FFC5-6244-43A6-8564-EF482D557956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B5B66-7FEF-4151-8E17-DE4ED6F45D2F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0F656-80D9-4C6D-9151-B2894B8C4B07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66560"/>
                <a:tab algn="l" pos="936720"/>
                <a:tab algn="l" pos="1406520"/>
                <a:tab algn="l" pos="1874880"/>
                <a:tab algn="l" pos="2344680"/>
                <a:tab algn="l" pos="2814480"/>
                <a:tab algn="l" pos="3284640"/>
                <a:tab algn="l" pos="3753000"/>
                <a:tab algn="l" pos="4222800"/>
                <a:tab algn="l" pos="4692600"/>
                <a:tab algn="l" pos="5162400"/>
                <a:tab algn="l" pos="5630760"/>
                <a:tab algn="l" pos="6100920"/>
                <a:tab algn="l" pos="6570720"/>
                <a:tab algn="l" pos="7040520"/>
                <a:tab algn="l" pos="7510320"/>
                <a:tab algn="l" pos="7978680"/>
                <a:tab algn="l" pos="8448840"/>
                <a:tab algn="l" pos="8918640"/>
                <a:tab algn="l" pos="9388440"/>
                <a:tab algn="l" pos="9434520"/>
                <a:tab algn="l" pos="9883800"/>
                <a:tab algn="l" pos="10333080"/>
                <a:tab algn="l" pos="10782360"/>
              </a:tabLst>
            </a:pPr>
            <a:fld id="{7400DBD3-96A6-4E34-92E8-553F7C52AFBD}" type="slidenum">
              <a:rPr b="0" lang="it-IT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420840" y="1241280"/>
            <a:ext cx="5956200" cy="3351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15757-16B2-4150-BC8E-27EB3397E654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9F0EE-DFBC-4CE2-B090-8C90D72BB773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01EB-E2D9-4BCC-9363-410631CDDF30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6"/>
          <p:cNvSpPr/>
          <p:nvPr/>
        </p:nvSpPr>
        <p:spPr>
          <a:xfrm>
            <a:off x="384660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8520"/>
                <a:tab algn="l" pos="2879640"/>
                <a:tab algn="l" pos="3290760"/>
                <a:tab algn="l" pos="3703680"/>
                <a:tab algn="l" pos="4114800"/>
                <a:tab algn="l" pos="4525920"/>
                <a:tab algn="l" pos="4938840"/>
                <a:tab algn="l" pos="5349960"/>
                <a:tab algn="l" pos="5761080"/>
                <a:tab algn="l" pos="6173640"/>
                <a:tab algn="l" pos="6585120"/>
                <a:tab algn="l" pos="6996240"/>
                <a:tab algn="l" pos="740880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485F-FC74-4032-9EE7-B7E31633568C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46600" y="9431280"/>
            <a:ext cx="293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B27D-78AA-477D-B928-A83EC6A23E8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C24DD-0B0E-4465-99BD-7939AB2D33B0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60" y="754200"/>
            <a:ext cx="6615360" cy="3722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9122-E38B-44F1-AA84-630E5B6735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DB12-B5E4-472A-82EA-3ABB763A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3232-7351-48D0-AD23-1CE6090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95D4-36CB-4470-9D47-5600009B88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84E95-88FA-44E3-A120-9C92BECB24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B33D1-4176-45EA-AEEA-F13B67B6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1FDA-9187-4740-8031-BDD3D8F5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BCDC-29B2-45CE-9C15-906B996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72425-ED57-4245-86A2-FE19348F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950400"/>
            <a:ext cx="82119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D7950-4848-4909-AC98-704D9EF3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CB227-F939-4372-93AB-E92F01D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6633-3020-4B11-B3BF-6BD5EA1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D407A-D405-46FB-934F-93FD0E5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6CEB-DC6C-4548-8A05-53122AD0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DD8CC-FCDD-4F0D-A097-507757F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A51FF-FB82-4955-889A-E9CEF1F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16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9840" y="120024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16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9840" y="2966400"/>
            <a:ext cx="264384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2D5C0-5779-4453-8BD8-CF7C96936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81E8-CC32-4E26-9C94-95783C29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C29B-8D33-4D0E-A34A-04B9D8F2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9153-BFDA-4384-ADE5-B3D2B1F2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950400"/>
            <a:ext cx="82119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3FBD-13F6-420E-BFD2-8AFC9549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8E7D-79E2-4ADC-9371-8A97503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296640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A7E7-8014-4203-A756-DE065F5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200240"/>
            <a:ext cx="40071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966400"/>
            <a:ext cx="8211960" cy="16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987F-A1C6-4377-A5B9-D09B0F6B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50400"/>
            <a:ext cx="821196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6960" indent="-2469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2/06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D943-F4AF-4E39-9590-6ACC19EDC101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8400"/>
            <a:ext cx="77547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22/06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4767120"/>
            <a:ext cx="211608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9942E2-A5A5-4DD2-9B7A-4569B0437DE1}" type="slidenum">
              <a:rPr b="0" lang="it-IT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203480"/>
            <a:ext cx="8211960" cy="33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619280" y="1492200"/>
            <a:ext cx="7313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62699"/>
                </a:solidFill>
                <a:latin typeface="Arial"/>
              </a:rPr>
              <a:t>Message in a bottle: how to communicate macro-regional strategies 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262699"/>
                </a:solidFill>
                <a:latin typeface="Arial"/>
              </a:rPr>
              <a:t>EUSALP Communication strateg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908000" y="4156200"/>
            <a:ext cx="721080" cy="57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431640" y="4272120"/>
            <a:ext cx="1224000" cy="34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916360" y="3076560"/>
            <a:ext cx="601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6ccff"/>
                </a:solidFill>
                <a:latin typeface="Arial"/>
              </a:rPr>
              <a:t>Annalisa Giac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66ccff"/>
                </a:solidFill>
                <a:latin typeface="Arial"/>
              </a:rPr>
              <a:t>Project manager AlpGov WPC, ERSAF Communication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588000" y="3724200"/>
            <a:ext cx="22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</a:rPr>
              <a:t>Izola, 18.09.20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ttangolo 2"/>
          <p:cNvSpPr/>
          <p:nvPr/>
        </p:nvSpPr>
        <p:spPr>
          <a:xfrm>
            <a:off x="2771640" y="116208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Gover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ttangolo 4"/>
          <p:cNvSpPr/>
          <p:nvPr/>
        </p:nvSpPr>
        <p:spPr>
          <a:xfrm>
            <a:off x="4284720" y="2139840"/>
            <a:ext cx="43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Lack of a joint political vision about EUSALP, focused target audiences, key tools and channe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Editor are  not professional communicators and they do not have time to be concentrated on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Long decision-making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1036800"/>
            <a:ext cx="1512720" cy="958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107460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79" name="Rettangolo 7"/>
          <p:cNvSpPr/>
          <p:nvPr/>
        </p:nvSpPr>
        <p:spPr>
          <a:xfrm>
            <a:off x="317520" y="2290680"/>
            <a:ext cx="3246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</a:rPr>
              <a:t>Good cooperatio</a:t>
            </a: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n between Communication Staff and Edito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</a:rPr>
              <a:t>A regulated process for ma</a:t>
            </a:r>
            <a:r>
              <a:rPr b="1" lang="en-GB" sz="1400" spc="-1" strike="noStrike">
                <a:solidFill>
                  <a:srgbClr val="7f7f7f"/>
                </a:solidFill>
                <a:latin typeface="Arial"/>
              </a:rPr>
              <a:t>naging  the daily requests coming from A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ttangolo 3"/>
          <p:cNvSpPr/>
          <p:nvPr/>
        </p:nvSpPr>
        <p:spPr>
          <a:xfrm>
            <a:off x="4859280" y="1924200"/>
            <a:ext cx="37782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eed to map the target audienc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Barriers to effectively reach out stakeholders and citize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7f7f7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Slow transition from institutional to effective commun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ttangolo 5"/>
          <p:cNvSpPr/>
          <p:nvPr/>
        </p:nvSpPr>
        <p:spPr>
          <a:xfrm>
            <a:off x="2916360" y="8668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Con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841320"/>
            <a:ext cx="1512720" cy="95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87948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8"/>
          <p:cNvSpPr/>
          <p:nvPr/>
        </p:nvSpPr>
        <p:spPr>
          <a:xfrm>
            <a:off x="611280" y="1995480"/>
            <a:ext cx="32734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Differe</a:t>
            </a: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t sectors involved (agricolture, food, mobility) with an high potential of civil engagemen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High level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of i</a:t>
            </a: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terest for project cont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ttangolo 3"/>
          <p:cNvSpPr/>
          <p:nvPr/>
        </p:nvSpPr>
        <p:spPr>
          <a:xfrm>
            <a:off x="4356000" y="1800360"/>
            <a:ext cx="460368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Need to define key policy message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Lack of knowledge of local territories and specific stories to make communication more real and concre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Difficulties in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reachi</a:t>
            </a: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g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 a wider audience (citizens a</a:t>
            </a:r>
            <a:r>
              <a:rPr b="1" lang="en-US" sz="1500" spc="-1" strike="noStrike">
                <a:solidFill>
                  <a:srgbClr val="7f7f7f"/>
                </a:solidFill>
                <a:latin typeface="Arial"/>
              </a:rPr>
              <a:t>nd young people) emphasizing “attracting topics” </a:t>
            </a: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related to EUSAL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ttangolo 5"/>
          <p:cNvSpPr/>
          <p:nvPr/>
        </p:nvSpPr>
        <p:spPr>
          <a:xfrm>
            <a:off x="2916360" y="100008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22228b"/>
                </a:solidFill>
                <a:latin typeface="Arial"/>
              </a:rPr>
              <a:t>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Risultati immagini per emoticon"/>
          <p:cNvPicPr/>
          <p:nvPr/>
        </p:nvPicPr>
        <p:blipFill>
          <a:blip r:embed="rId1"/>
          <a:stretch/>
        </p:blipFill>
        <p:spPr>
          <a:xfrm>
            <a:off x="971640" y="841320"/>
            <a:ext cx="1512720" cy="959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Risultati immagini per emoticon"/>
          <p:cNvPicPr/>
          <p:nvPr/>
        </p:nvPicPr>
        <p:blipFill>
          <a:blip r:embed="rId2"/>
          <a:stretch/>
        </p:blipFill>
        <p:spPr>
          <a:xfrm>
            <a:off x="6732720" y="879480"/>
            <a:ext cx="1261800" cy="917640"/>
          </a:xfrm>
          <a:prstGeom prst="rect">
            <a:avLst/>
          </a:prstGeom>
          <a:ln w="0">
            <a:noFill/>
          </a:ln>
        </p:spPr>
      </p:pic>
      <p:sp>
        <p:nvSpPr>
          <p:cNvPr id="190" name="Rettangolo 8"/>
          <p:cNvSpPr/>
          <p:nvPr/>
        </p:nvSpPr>
        <p:spPr>
          <a:xfrm>
            <a:off x="250920" y="1809720"/>
            <a:ext cx="367344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Platform of knowledge (PO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Successful newslett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7f7f7f"/>
                </a:solidFill>
                <a:latin typeface="Arial"/>
              </a:rPr>
              <a:t>Social media channels activate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7f7f7f"/>
                </a:solidFill>
                <a:latin typeface="Arial"/>
              </a:rPr>
              <a:t>Joint training to communicate specific issues and to establish stronger links with the working group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ttangolo 5"/>
          <p:cNvSpPr/>
          <p:nvPr/>
        </p:nvSpPr>
        <p:spPr>
          <a:xfrm>
            <a:off x="4373640" y="195120"/>
            <a:ext cx="45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.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777960" y="1563840"/>
            <a:ext cx="840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Lessons learned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How to improve our performance: our plans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e 4"/>
          <p:cNvSpPr/>
          <p:nvPr/>
        </p:nvSpPr>
        <p:spPr>
          <a:xfrm>
            <a:off x="395280" y="163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e 8"/>
          <p:cNvSpPr/>
          <p:nvPr/>
        </p:nvSpPr>
        <p:spPr>
          <a:xfrm>
            <a:off x="395280" y="2211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e 9"/>
          <p:cNvSpPr/>
          <p:nvPr/>
        </p:nvSpPr>
        <p:spPr>
          <a:xfrm>
            <a:off x="395280" y="2787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ttangolo 7"/>
          <p:cNvSpPr/>
          <p:nvPr/>
        </p:nvSpPr>
        <p:spPr>
          <a:xfrm>
            <a:off x="2340000" y="1779480"/>
            <a:ext cx="6408720" cy="4320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ttangolo 1"/>
          <p:cNvSpPr/>
          <p:nvPr/>
        </p:nvSpPr>
        <p:spPr>
          <a:xfrm>
            <a:off x="1619280" y="1131840"/>
            <a:ext cx="7124760" cy="4320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4572000" y="50760"/>
            <a:ext cx="4392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asellaDiTesto 1"/>
          <p:cNvSpPr/>
          <p:nvPr/>
        </p:nvSpPr>
        <p:spPr>
          <a:xfrm>
            <a:off x="304920" y="2500200"/>
            <a:ext cx="45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c00000"/>
                </a:solidFill>
                <a:latin typeface="Arial"/>
              </a:rPr>
              <a:t>From problems to solutio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ttangolo 8"/>
          <p:cNvSpPr/>
          <p:nvPr/>
        </p:nvSpPr>
        <p:spPr>
          <a:xfrm>
            <a:off x="4643280" y="2500200"/>
            <a:ext cx="4105440" cy="107964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Rettangolo 4" descr=""/>
          <p:cNvPicPr/>
          <p:nvPr/>
        </p:nvPicPr>
        <p:blipFill>
          <a:blip r:embed="rId1"/>
          <a:stretch/>
        </p:blipFill>
        <p:spPr>
          <a:xfrm>
            <a:off x="1511280" y="1176480"/>
            <a:ext cx="7248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ma 8" descr=""/>
          <p:cNvPicPr/>
          <p:nvPr/>
        </p:nvPicPr>
        <p:blipFill>
          <a:blip r:embed="rId1"/>
          <a:stretch/>
        </p:blipFill>
        <p:spPr>
          <a:xfrm>
            <a:off x="152280" y="1060560"/>
            <a:ext cx="8680680" cy="2182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"/>
          <p:cNvSpPr/>
          <p:nvPr/>
        </p:nvSpPr>
        <p:spPr>
          <a:xfrm>
            <a:off x="4427640" y="123840"/>
            <a:ext cx="43923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asellaDiTesto 11"/>
          <p:cNvSpPr/>
          <p:nvPr/>
        </p:nvSpPr>
        <p:spPr>
          <a:xfrm>
            <a:off x="465120" y="3243240"/>
            <a:ext cx="25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23-24 October 2018 Workshop on Communication Strategy- Innsb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asellaDiTesto 12"/>
          <p:cNvSpPr/>
          <p:nvPr/>
        </p:nvSpPr>
        <p:spPr>
          <a:xfrm>
            <a:off x="2987640" y="32688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20-21 November 2018 Annual Forum-Innsb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CasellaDiTesto 14"/>
          <p:cNvSpPr/>
          <p:nvPr/>
        </p:nvSpPr>
        <p:spPr>
          <a:xfrm>
            <a:off x="5742000" y="32688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ithin January/February 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CasellaDiTesto 6"/>
          <p:cNvSpPr/>
          <p:nvPr/>
        </p:nvSpPr>
        <p:spPr>
          <a:xfrm>
            <a:off x="684360" y="793800"/>
            <a:ext cx="77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Our strategy for the next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e 1"/>
          <p:cNvSpPr/>
          <p:nvPr/>
        </p:nvSpPr>
        <p:spPr>
          <a:xfrm>
            <a:off x="6012000" y="1317600"/>
            <a:ext cx="2736720" cy="16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4689360" y="230040"/>
            <a:ext cx="4392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3. Next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ttangolo 3"/>
          <p:cNvSpPr/>
          <p:nvPr/>
        </p:nvSpPr>
        <p:spPr>
          <a:xfrm>
            <a:off x="404640" y="7714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22228b"/>
                </a:solidFill>
                <a:latin typeface="Arial"/>
              </a:rPr>
              <a:t>STEP 3: NEW PROCUREMENT PROCEDURE FOR AN EXPERT TEAM  SEL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ccia circolare a destra 4"/>
          <p:cNvSpPr/>
          <p:nvPr/>
        </p:nvSpPr>
        <p:spPr>
          <a:xfrm>
            <a:off x="468360" y="1833480"/>
            <a:ext cx="2176560" cy="2538360"/>
          </a:xfrm>
          <a:custGeom>
            <a:avLst/>
            <a:gdLst>
              <a:gd name="textAreaLeft" fmla="*/ 291600 w 2176560"/>
              <a:gd name="textAreaRight" fmla="*/ 1884960 w 2176560"/>
              <a:gd name="textAreaTop" fmla="*/ 430560 h 2538360"/>
              <a:gd name="textAreaBottom" fmla="*/ 1836000 h 25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28" stAng="-5400000" swAng="-5400000"/>
                <a:lnTo>
                  <a:pt x="0" y="11958"/>
                </a:lnTo>
                <a:arcTo wR="21600" hR="7328" stAng="10800000" swAng="-3163474"/>
                <a:lnTo>
                  <a:pt x="16200" y="21367"/>
                </a:lnTo>
                <a:lnTo>
                  <a:pt x="21600" y="16970"/>
                </a:lnTo>
                <a:lnTo>
                  <a:pt x="16200" y="12107"/>
                </a:lnTo>
                <a:lnTo>
                  <a:pt x="16200" y="14422"/>
                </a:lnTo>
                <a:arcTo wR="21600" hR="7328" stAng="7636526" swAng="2776780"/>
                <a:lnTo>
                  <a:pt x="1106" y="9643"/>
                </a:lnTo>
                <a:arcTo wR="21600" hR="7328" stAng="-10413306" swAng="5013306"/>
                <a:close/>
              </a:path>
              <a:path fill="darkenLess" w="21600" h="21600">
                <a:moveTo>
                  <a:pt x="21600" y="0"/>
                </a:moveTo>
                <a:arcTo wR="21600" hR="7328" stAng="-5400000" swAng="-5400000"/>
                <a:lnTo>
                  <a:pt x="0" y="7328"/>
                </a:lnTo>
                <a:arcTo wR="21600" hR="7328" stAng="10800000" swAng="-386694"/>
                <a:lnTo>
                  <a:pt x="1106" y="9643"/>
                </a:lnTo>
                <a:arcTo wR="21600" hR="7328" stAng="-10413306" swAng="5013306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CasellaDiTesto 5"/>
          <p:cNvSpPr/>
          <p:nvPr/>
        </p:nvSpPr>
        <p:spPr>
          <a:xfrm>
            <a:off x="539640" y="2427120"/>
            <a:ext cx="2851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3000" spc="-1" strike="noStrike">
                <a:solidFill>
                  <a:srgbClr val="c00000"/>
                </a:solidFill>
                <a:latin typeface="Arial"/>
              </a:rPr>
              <a:t>In which directio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ttangolo 7"/>
          <p:cNvSpPr/>
          <p:nvPr/>
        </p:nvSpPr>
        <p:spPr>
          <a:xfrm>
            <a:off x="3059280" y="1487520"/>
            <a:ext cx="5833800" cy="3403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To ide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ti</a:t>
            </a: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fy 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ew Editorial team responsible for communication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identify and collect project contents through direct meetings with all the AG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gather information and data about events and case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o directly interview testimonials and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To produce storyte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Calibri"/>
              </a:rPr>
              <a:t>Social media strenghthe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1332000" y="1563840"/>
            <a:ext cx="64483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4586"/>
                </a:solidFill>
                <a:latin typeface="Roboto"/>
              </a:rPr>
              <a:t>THANK YOU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99999"/>
                </a:solidFill>
                <a:latin typeface="Roboto"/>
              </a:rPr>
              <a:t>EUSALP – EU Strategy for the Alpine Reg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84d1"/>
                </a:solidFill>
                <a:latin typeface="Roboto"/>
              </a:rPr>
              <a:t>www.alpine-region.e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99999"/>
                </a:solidFill>
                <a:latin typeface="Roboto"/>
              </a:rPr>
              <a:t>Communication sta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84d1"/>
                </a:solidFill>
                <a:latin typeface="Roboto"/>
              </a:rPr>
              <a:t>ag1leader.communication.staff@alpine-region.e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1640" y="4272120"/>
            <a:ext cx="1224000" cy="34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1908000" y="4156200"/>
            <a:ext cx="72108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77960" y="1276200"/>
            <a:ext cx="78264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8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Lessons learned about EUSALP Communication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How to improve our performance: next steps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e 4"/>
          <p:cNvSpPr/>
          <p:nvPr/>
        </p:nvSpPr>
        <p:spPr>
          <a:xfrm>
            <a:off x="395280" y="134784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e 8"/>
          <p:cNvSpPr/>
          <p:nvPr/>
        </p:nvSpPr>
        <p:spPr>
          <a:xfrm>
            <a:off x="395280" y="192420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e 9"/>
          <p:cNvSpPr/>
          <p:nvPr/>
        </p:nvSpPr>
        <p:spPr>
          <a:xfrm>
            <a:off x="395280" y="307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ottotitolo 3"/>
          <p:cNvSpPr/>
          <p:nvPr/>
        </p:nvSpPr>
        <p:spPr>
          <a:xfrm>
            <a:off x="223920" y="2249640"/>
            <a:ext cx="35272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ERSAF Communication Staff is a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coordination point</a:t>
            </a: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 for communication activities and receives contents from the Editors and the single A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3780000" y="816120"/>
            <a:ext cx="5133960" cy="3105000"/>
          </a:xfrm>
          <a:prstGeom prst="rect">
            <a:avLst/>
          </a:prstGeom>
          <a:ln w="0">
            <a:noFill/>
          </a:ln>
        </p:spPr>
      </p:pic>
      <p:sp>
        <p:nvSpPr>
          <p:cNvPr id="110" name="Sottotitolo 3"/>
          <p:cNvSpPr/>
          <p:nvPr/>
        </p:nvSpPr>
        <p:spPr>
          <a:xfrm>
            <a:off x="236520" y="3546360"/>
            <a:ext cx="352728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Actually The Communication Staff mainly interacts with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Editors</a:t>
            </a: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,  from General Assembly, Annual Presidency, Observers, executive Boards and Action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ttangolo 1"/>
          <p:cNvSpPr/>
          <p:nvPr/>
        </p:nvSpPr>
        <p:spPr>
          <a:xfrm>
            <a:off x="5724360" y="2543040"/>
            <a:ext cx="1440000" cy="460440"/>
          </a:xfrm>
          <a:prstGeom prst="rect">
            <a:avLst/>
          </a:prstGeom>
          <a:solidFill>
            <a:srgbClr val="191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mmunication Sta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182760" y="50760"/>
            <a:ext cx="5731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The Communication Staff: who w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ottotitolo 3"/>
          <p:cNvSpPr/>
          <p:nvPr/>
        </p:nvSpPr>
        <p:spPr>
          <a:xfrm>
            <a:off x="270000" y="915840"/>
            <a:ext cx="37256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5390f"/>
                </a:solidFill>
                <a:latin typeface="Calibri"/>
              </a:rPr>
              <a:t>ERSAF is </a:t>
            </a:r>
            <a:r>
              <a:rPr b="1" lang="it-IT" sz="1600" spc="-1" strike="noStrike">
                <a:solidFill>
                  <a:srgbClr val="c00000"/>
                </a:solidFill>
                <a:latin typeface="Calibri"/>
              </a:rPr>
              <a:t>an operative  Agency of Regione Lombardia</a:t>
            </a:r>
            <a:r>
              <a:rPr b="1" lang="en-US" sz="1600" spc="-1" strike="noStrike">
                <a:solidFill>
                  <a:srgbClr val="25390f"/>
                </a:solidFill>
                <a:latin typeface="Calibri"/>
              </a:rPr>
              <a:t>, in charge of carrying out communication and promotional activities for the development of the agricultural sectors and the rural territo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12"/>
          <p:cNvSpPr/>
          <p:nvPr/>
        </p:nvSpPr>
        <p:spPr>
          <a:xfrm>
            <a:off x="268200" y="811080"/>
            <a:ext cx="8658360" cy="40032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ttangolo 1"/>
          <p:cNvSpPr/>
          <p:nvPr/>
        </p:nvSpPr>
        <p:spPr>
          <a:xfrm>
            <a:off x="4932360" y="15937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What to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 </a:t>
            </a: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To whom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Roboto"/>
              </a:rPr>
              <a:t>How commun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tangolo 3"/>
          <p:cNvSpPr/>
          <p:nvPr/>
        </p:nvSpPr>
        <p:spPr>
          <a:xfrm>
            <a:off x="-1983240" y="819000"/>
            <a:ext cx="12108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7f7f7f"/>
                </a:solidFill>
                <a:latin typeface="Roboto"/>
              </a:rPr>
              <a:t>In September 2017, ERSAF delivered a Draft document of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Rettangolo 2"/>
          <p:cNvGrpSpPr/>
          <p:nvPr/>
        </p:nvGrpSpPr>
        <p:grpSpPr>
          <a:xfrm>
            <a:off x="414360" y="1682640"/>
            <a:ext cx="4236840" cy="901800"/>
            <a:chOff x="414360" y="1682640"/>
            <a:chExt cx="4236840" cy="901800"/>
          </a:xfrm>
        </p:grpSpPr>
        <p:pic>
          <p:nvPicPr>
            <p:cNvPr id="118" name="Rettangolo 2" descr=""/>
            <p:cNvPicPr/>
            <p:nvPr/>
          </p:nvPicPr>
          <p:blipFill>
            <a:blip r:embed="rId1"/>
            <a:stretch/>
          </p:blipFill>
          <p:spPr>
            <a:xfrm>
              <a:off x="414360" y="1682640"/>
              <a:ext cx="42368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714680"/>
              <a:ext cx="4129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 Box 2"/>
          <p:cNvSpPr/>
          <p:nvPr/>
        </p:nvSpPr>
        <p:spPr>
          <a:xfrm>
            <a:off x="706320" y="1668600"/>
            <a:ext cx="38912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boto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EUSALP Communication Strategy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for the period Ja</a:t>
            </a:r>
            <a:r>
              <a:rPr b="1" lang="en-GB" sz="2400" spc="-1" strike="noStrike">
                <a:solidFill>
                  <a:srgbClr val="ffffff"/>
                </a:solidFill>
                <a:latin typeface="Roboto"/>
              </a:rPr>
              <a:t>nuary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</a:rPr>
              <a:t>2016 to June 20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ccia a destra 4"/>
          <p:cNvSpPr/>
          <p:nvPr/>
        </p:nvSpPr>
        <p:spPr>
          <a:xfrm>
            <a:off x="4964040" y="1930320"/>
            <a:ext cx="21744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268200" y="3009960"/>
            <a:ext cx="21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11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Three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tangolo 5"/>
          <p:cNvSpPr/>
          <p:nvPr/>
        </p:nvSpPr>
        <p:spPr>
          <a:xfrm>
            <a:off x="382680" y="1562040"/>
            <a:ext cx="8550360" cy="1096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ccia a destra 10"/>
          <p:cNvSpPr/>
          <p:nvPr/>
        </p:nvSpPr>
        <p:spPr>
          <a:xfrm>
            <a:off x="2386080" y="3076560"/>
            <a:ext cx="218880" cy="35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87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Diagramma 6" descr=""/>
          <p:cNvPicPr/>
          <p:nvPr/>
        </p:nvPicPr>
        <p:blipFill>
          <a:blip r:embed="rId2"/>
          <a:stretch/>
        </p:blipFill>
        <p:spPr>
          <a:xfrm>
            <a:off x="2603520" y="2498760"/>
            <a:ext cx="6138720" cy="1731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tangolo 7"/>
          <p:cNvSpPr/>
          <p:nvPr/>
        </p:nvSpPr>
        <p:spPr>
          <a:xfrm>
            <a:off x="179280" y="771480"/>
            <a:ext cx="8929800" cy="39996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79280" y="700200"/>
            <a:ext cx="8801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300" spc="-1" strike="noStrike">
                <a:solidFill>
                  <a:srgbClr val="7f7f7f"/>
                </a:solidFill>
                <a:latin typeface="Roboto"/>
              </a:rPr>
              <a:t>All our daily activities are based upon 7pillar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Diagramma 1" descr=""/>
          <p:cNvPicPr/>
          <p:nvPr/>
        </p:nvPicPr>
        <p:blipFill>
          <a:blip r:embed="rId1"/>
          <a:stretch/>
        </p:blipFill>
        <p:spPr>
          <a:xfrm>
            <a:off x="201600" y="1347840"/>
            <a:ext cx="4157640" cy="3309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roce 2"/>
          <p:cNvSpPr/>
          <p:nvPr/>
        </p:nvSpPr>
        <p:spPr>
          <a:xfrm>
            <a:off x="4282920" y="2336760"/>
            <a:ext cx="576360" cy="432000"/>
          </a:xfrm>
          <a:custGeom>
            <a:avLst/>
            <a:gdLst/>
            <a:ahLst/>
            <a:rect l="l" t="t" r="r" b="b"/>
            <a:pathLst>
              <a:path w="576263" h="431800">
                <a:moveTo>
                  <a:pt x="76384" y="165120"/>
                </a:moveTo>
                <a:lnTo>
                  <a:pt x="237352" y="165120"/>
                </a:lnTo>
                <a:lnTo>
                  <a:pt x="237352" y="57235"/>
                </a:lnTo>
                <a:lnTo>
                  <a:pt x="338911" y="57235"/>
                </a:lnTo>
                <a:lnTo>
                  <a:pt x="338911" y="165120"/>
                </a:lnTo>
                <a:lnTo>
                  <a:pt x="499879" y="165120"/>
                </a:lnTo>
                <a:lnTo>
                  <a:pt x="499879" y="266680"/>
                </a:lnTo>
                <a:lnTo>
                  <a:pt x="338911" y="266680"/>
                </a:lnTo>
                <a:lnTo>
                  <a:pt x="338911" y="374565"/>
                </a:lnTo>
                <a:lnTo>
                  <a:pt x="237352" y="374565"/>
                </a:lnTo>
                <a:lnTo>
                  <a:pt x="237352" y="266680"/>
                </a:lnTo>
                <a:lnTo>
                  <a:pt x="76384" y="266680"/>
                </a:lnTo>
                <a:lnTo>
                  <a:pt x="76384" y="165120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2323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Risultati immagini per social network"/>
          <p:cNvPicPr/>
          <p:nvPr/>
        </p:nvPicPr>
        <p:blipFill>
          <a:blip r:embed="rId2"/>
          <a:stretch/>
        </p:blipFill>
        <p:spPr>
          <a:xfrm>
            <a:off x="4792680" y="1930320"/>
            <a:ext cx="1719360" cy="1289160"/>
          </a:xfrm>
          <a:prstGeom prst="rect">
            <a:avLst/>
          </a:prstGeom>
          <a:ln w="0">
            <a:noFill/>
          </a:ln>
        </p:spPr>
      </p:pic>
      <p:sp>
        <p:nvSpPr>
          <p:cNvPr id="135" name="Sottotitolo 3"/>
          <p:cNvSpPr/>
          <p:nvPr/>
        </p:nvSpPr>
        <p:spPr>
          <a:xfrm>
            <a:off x="6588000" y="1544760"/>
            <a:ext cx="21909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500" spc="-1" strike="noStrike">
                <a:solidFill>
                  <a:srgbClr val="898989"/>
                </a:solidFill>
                <a:latin typeface="Calibri"/>
              </a:rPr>
              <a:t>The Communication Staff is the social media manager (on the basis of the Editors’ content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asellaDiTesto 8"/>
          <p:cNvSpPr/>
          <p:nvPr/>
        </p:nvSpPr>
        <p:spPr>
          <a:xfrm>
            <a:off x="229680" y="147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asellaDiTesto 18"/>
          <p:cNvSpPr/>
          <p:nvPr/>
        </p:nvSpPr>
        <p:spPr>
          <a:xfrm>
            <a:off x="542520" y="192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asellaDiTesto 19"/>
          <p:cNvSpPr/>
          <p:nvPr/>
        </p:nvSpPr>
        <p:spPr>
          <a:xfrm>
            <a:off x="686880" y="2408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CasellaDiTesto 20"/>
          <p:cNvSpPr/>
          <p:nvPr/>
        </p:nvSpPr>
        <p:spPr>
          <a:xfrm>
            <a:off x="710640" y="27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CasellaDiTesto 21"/>
          <p:cNvSpPr/>
          <p:nvPr/>
        </p:nvSpPr>
        <p:spPr>
          <a:xfrm>
            <a:off x="686880" y="3263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sellaDiTesto 22"/>
          <p:cNvSpPr/>
          <p:nvPr/>
        </p:nvSpPr>
        <p:spPr>
          <a:xfrm>
            <a:off x="516960" y="372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CasellaDiTesto 23"/>
          <p:cNvSpPr/>
          <p:nvPr/>
        </p:nvSpPr>
        <p:spPr>
          <a:xfrm>
            <a:off x="275760" y="41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2228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82440" y="639720"/>
            <a:ext cx="4550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EUSALP Website statis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(Ja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uary-August  2018</a:t>
            </a: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93600" y="4067280"/>
            <a:ext cx="4694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tangolo 2"/>
          <p:cNvSpPr/>
          <p:nvPr/>
        </p:nvSpPr>
        <p:spPr>
          <a:xfrm>
            <a:off x="460440" y="1276200"/>
            <a:ext cx="3287520" cy="550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500" spc="-1" strike="noStrike">
                <a:solidFill>
                  <a:srgbClr val="ffffff"/>
                </a:solidFill>
                <a:latin typeface="Arial"/>
              </a:rPr>
              <a:t>Number  of users and average session duration</a:t>
            </a: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ttangolo 3"/>
          <p:cNvSpPr/>
          <p:nvPr/>
        </p:nvSpPr>
        <p:spPr>
          <a:xfrm>
            <a:off x="460440" y="4067280"/>
            <a:ext cx="47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ach visit lasts on average more than 4 minu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4" descr="C:\Users\progetti31\Desktop\Users.jpg"/>
          <p:cNvPicPr/>
          <p:nvPr/>
        </p:nvPicPr>
        <p:blipFill>
          <a:blip r:embed="rId1"/>
          <a:stretch/>
        </p:blipFill>
        <p:spPr>
          <a:xfrm>
            <a:off x="235080" y="1924200"/>
            <a:ext cx="2232000" cy="1247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C:\Users\progetti31\Desktop\Avg..jpg"/>
          <p:cNvPicPr/>
          <p:nvPr/>
        </p:nvPicPr>
        <p:blipFill>
          <a:blip r:embed="rId2"/>
          <a:stretch/>
        </p:blipFill>
        <p:spPr>
          <a:xfrm>
            <a:off x="2556000" y="2754360"/>
            <a:ext cx="2160360" cy="1257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ttangolo 15"/>
          <p:cNvSpPr/>
          <p:nvPr/>
        </p:nvSpPr>
        <p:spPr>
          <a:xfrm>
            <a:off x="4788000" y="700200"/>
            <a:ext cx="4248000" cy="322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try channel to the si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ttangolo 21"/>
          <p:cNvSpPr/>
          <p:nvPr/>
        </p:nvSpPr>
        <p:spPr>
          <a:xfrm>
            <a:off x="4788000" y="3268800"/>
            <a:ext cx="4340160" cy="14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More than 7.100 visits come from free searches on Goog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More than 2.500 visits come from </a:t>
            </a: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people 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 typing directly </a:t>
            </a:r>
            <a:r>
              <a:rPr b="1" lang="en-US" sz="1500" spc="-1" strike="noStrike">
                <a:solidFill>
                  <a:srgbClr val="66ccff"/>
                </a:solidFill>
                <a:latin typeface="Arial"/>
              </a:rPr>
              <a:t>www.alpine-region.e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nly 519 visits c</a:t>
            </a:r>
            <a:r>
              <a:rPr b="1" lang="it-IT" sz="1500" spc="-1" strike="noStrike">
                <a:solidFill>
                  <a:srgbClr val="c00000"/>
                </a:solidFill>
                <a:latin typeface="Arial"/>
              </a:rPr>
              <a:t>ome from social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c00000"/>
                </a:solidFill>
                <a:latin typeface="Arial"/>
              </a:rPr>
              <a:t>network. This is an entry channel to be improv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5" descr=""/>
          <p:cNvPicPr/>
          <p:nvPr/>
        </p:nvPicPr>
        <p:blipFill>
          <a:blip r:embed="rId3"/>
          <a:stretch/>
        </p:blipFill>
        <p:spPr>
          <a:xfrm>
            <a:off x="5076720" y="1020600"/>
            <a:ext cx="39592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tangolo 9"/>
          <p:cNvSpPr/>
          <p:nvPr/>
        </p:nvSpPr>
        <p:spPr>
          <a:xfrm>
            <a:off x="114480" y="770040"/>
            <a:ext cx="8850240" cy="649080"/>
          </a:xfrm>
          <a:prstGeom prst="rect">
            <a:avLst/>
          </a:prstGeom>
          <a:solidFill>
            <a:srgbClr val="f2f2f2"/>
          </a:solidFill>
          <a:ln w="93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79520" y="868320"/>
            <a:ext cx="8124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-252360" y="1449360"/>
            <a:ext cx="38163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  </a:t>
            </a: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1 (August 20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Robot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85760" y="620640"/>
            <a:ext cx="8850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EUSALP newsletters have been sent to more than 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6.500 recipients in the 4 Alpine languages</a:t>
            </a: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and English</a:t>
            </a:r>
            <a:r>
              <a:rPr b="1" lang="it-IT" sz="1400" spc="-1" strike="noStrike">
                <a:solidFill>
                  <a:srgbClr val="898989"/>
                </a:solidFill>
                <a:latin typeface="Arial"/>
              </a:rPr>
              <a:t>. The different versions of the newsletters are also published in the EUSALP websi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916360" y="1449360"/>
            <a:ext cx="3600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2 (December 20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24360" y="1449360"/>
            <a:ext cx="324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Roboto"/>
              </a:rPr>
              <a:t>Newsletter 3 (June 20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4000" y="1836720"/>
          <a:ext cx="2862360" cy="2967120"/>
        </p:xfrm>
        <a:graphic>
          <a:graphicData uri="http://schemas.openxmlformats.org/drawingml/2006/table">
            <a:tbl>
              <a:tblPr/>
              <a:tblGrid>
                <a:gridCol w="865080"/>
                <a:gridCol w="1042920"/>
                <a:gridCol w="954360"/>
              </a:tblGrid>
              <a:tr h="57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7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027240" y="1836720"/>
          <a:ext cx="2840040" cy="2967120"/>
        </p:xfrm>
        <a:graphic>
          <a:graphicData uri="http://schemas.openxmlformats.org/drawingml/2006/table">
            <a:tbl>
              <a:tblPr/>
              <a:tblGrid>
                <a:gridCol w="846360"/>
                <a:gridCol w="1047600"/>
                <a:gridCol w="946080"/>
              </a:tblGrid>
              <a:tr h="57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5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6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989680" y="1789200"/>
          <a:ext cx="2975040" cy="3014640"/>
        </p:xfrm>
        <a:graphic>
          <a:graphicData uri="http://schemas.openxmlformats.org/drawingml/2006/table">
            <a:tbl>
              <a:tblPr/>
              <a:tblGrid>
                <a:gridCol w="863640"/>
                <a:gridCol w="1095120"/>
                <a:gridCol w="1016280"/>
              </a:tblGrid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bmissio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ning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7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glis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l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loveni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n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m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"/>
          <p:cNvSpPr/>
          <p:nvPr/>
        </p:nvSpPr>
        <p:spPr>
          <a:xfrm>
            <a:off x="3780000" y="158760"/>
            <a:ext cx="5133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5080"/>
                </a:solidFill>
                <a:latin typeface="Roboto"/>
              </a:rPr>
              <a:t>1. What we have done until 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777960" y="1563840"/>
            <a:ext cx="840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Who we are and what we have done until now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700" spc="-1" strike="noStrike">
                <a:solidFill>
                  <a:srgbClr val="c00000"/>
                </a:solidFill>
                <a:latin typeface="Roboto"/>
              </a:rPr>
              <a:t>Lessons learned: points of strength and weaknes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700" spc="-1" strike="noStrike">
                <a:solidFill>
                  <a:srgbClr val="005080"/>
                </a:solidFill>
                <a:latin typeface="Roboto"/>
              </a:rPr>
              <a:t>How to improve our performance: our plan for the futur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e 4"/>
          <p:cNvSpPr/>
          <p:nvPr/>
        </p:nvSpPr>
        <p:spPr>
          <a:xfrm>
            <a:off x="395280" y="163512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e 8"/>
          <p:cNvSpPr/>
          <p:nvPr/>
        </p:nvSpPr>
        <p:spPr>
          <a:xfrm>
            <a:off x="395280" y="2211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e 9"/>
          <p:cNvSpPr/>
          <p:nvPr/>
        </p:nvSpPr>
        <p:spPr>
          <a:xfrm>
            <a:off x="395280" y="2787480"/>
            <a:ext cx="405000" cy="360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agramma 1" descr=""/>
          <p:cNvPicPr/>
          <p:nvPr/>
        </p:nvPicPr>
        <p:blipFill>
          <a:blip r:embed="rId1"/>
          <a:stretch/>
        </p:blipFill>
        <p:spPr>
          <a:xfrm>
            <a:off x="1401840" y="987480"/>
            <a:ext cx="6095880" cy="3060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Risultati immagini per emoticon"/>
          <p:cNvPicPr/>
          <p:nvPr/>
        </p:nvPicPr>
        <p:blipFill>
          <a:blip r:embed="rId2"/>
          <a:stretch/>
        </p:blipFill>
        <p:spPr>
          <a:xfrm>
            <a:off x="900000" y="2197080"/>
            <a:ext cx="151128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2"/>
          <p:cNvSpPr/>
          <p:nvPr/>
        </p:nvSpPr>
        <p:spPr>
          <a:xfrm>
            <a:off x="766440" y="141912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hat is working well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asellaDiTesto 10"/>
          <p:cNvSpPr/>
          <p:nvPr/>
        </p:nvSpPr>
        <p:spPr>
          <a:xfrm>
            <a:off x="6238440" y="144288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What is not working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Risultati immagini per emoticon"/>
          <p:cNvPicPr/>
          <p:nvPr/>
        </p:nvPicPr>
        <p:blipFill>
          <a:blip r:embed="rId3"/>
          <a:stretch/>
        </p:blipFill>
        <p:spPr>
          <a:xfrm>
            <a:off x="6888240" y="2217600"/>
            <a:ext cx="1262160" cy="91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nnalisa</cp:lastModifiedBy>
  <cp:lastPrinted>2018-06-22T08:12:44Z</cp:lastPrinted>
  <dcterms:modified xsi:type="dcterms:W3CDTF">2018-09-17T20:57:09Z</dcterms:modified>
  <cp:revision>182</cp:revision>
  <dc:subject/>
  <dc:title>Presentazione standard di PowerPoint</dc:title>
</cp:coreProperties>
</file>