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5400" y="754200"/>
            <a:ext cx="658944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30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84660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5"/>
          </p:nvPr>
        </p:nvSpPr>
        <p:spPr>
          <a:xfrm>
            <a:off x="38462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928F2-AF8C-4B0D-AE17-67AE72A6C61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7B4D0-B7D4-4AAA-9EE2-AB7E67432E6D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68A54-8F7F-4F4D-AD53-9B1EE64BFC32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33E1F-8A5E-4C29-9AFA-A5AE4EB108F1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39E0F-FEE1-4C12-906E-9AF09ACDEBC1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454F3-C5DE-48C3-B873-2755EF3C2FE7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A9D82-F8FF-4B01-8E2D-E543CA359F56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5400" y="754200"/>
            <a:ext cx="6589440" cy="37065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30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DEDFB-00DD-49AA-BD26-ADBDF1F0268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E0C01-601B-472F-9A41-3400843BBB6B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D6681-1E5F-47CD-8AC1-74E0DC911090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70107-BFFF-4802-9B1F-3BBFD1812D36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44AE8-E5D6-4C00-AF3D-600130DA5ACB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6564D-31B9-478C-86C8-2C827DC5B1D8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5F7CF-C545-459C-A881-39515D730E55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01D5D-5CC6-4E75-9356-328AE52EC3BC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5400" y="754200"/>
            <a:ext cx="6591240" cy="3708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2448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6F7C2-433F-482F-9C16-21A08783B398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52219-B0F7-44E2-BDF9-7E7E456013B6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0C3CE-1A3E-4036-808B-F56D40543ADD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F5C62-63FE-49AE-9732-FEF8F57D1A57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8F786-9CC0-4219-9A76-3689CD2CBB76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77E07-4A5E-4C6A-82FF-63678AF35A74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2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66560"/>
                <a:tab algn="l" pos="936720"/>
                <a:tab algn="l" pos="1406520"/>
                <a:tab algn="l" pos="1874880"/>
                <a:tab algn="l" pos="2344680"/>
                <a:tab algn="l" pos="2814480"/>
                <a:tab algn="l" pos="3284640"/>
                <a:tab algn="l" pos="3753000"/>
                <a:tab algn="l" pos="4222800"/>
                <a:tab algn="l" pos="4692600"/>
                <a:tab algn="l" pos="5162400"/>
                <a:tab algn="l" pos="5630760"/>
                <a:tab algn="l" pos="6100920"/>
                <a:tab algn="l" pos="6570720"/>
                <a:tab algn="l" pos="7040520"/>
                <a:tab algn="l" pos="7510320"/>
                <a:tab algn="l" pos="7978680"/>
                <a:tab algn="l" pos="8448840"/>
                <a:tab algn="l" pos="8918640"/>
                <a:tab algn="l" pos="9388440"/>
                <a:tab algn="l" pos="9434520"/>
                <a:tab algn="l" pos="9883800"/>
                <a:tab algn="l" pos="10333080"/>
                <a:tab algn="l" pos="10782360"/>
              </a:tabLst>
            </a:pPr>
            <a:fld id="{175015FA-CAC9-4B71-9828-4771E5A8A746}" type="slidenum">
              <a:rPr b="0" lang="it-IT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420840" y="1241280"/>
            <a:ext cx="5956200" cy="3351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85864-1AAD-4BEF-958F-E780D669FED3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DA3D4-9104-4785-9113-3293B04BC27C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988A4-15BB-4B86-95A5-8E6CED5DE706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553E5-65A1-4533-AD03-724561C905CA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AD42C-E111-4D42-85F1-3FBA4E358572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D4AA1-C8CE-4F29-A26E-C2C5568B1D66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354D-FC04-46B4-B213-48DAB236F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296640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B59A-2EC5-4021-B6D1-95D8B843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93C4-D9C0-4521-8F19-AEC189B2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16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16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3208-F85B-452C-AE94-528AE3257F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5E5ED-940E-4DAB-B526-BB65DF42C7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D174E-6244-44FA-A1EB-1EAC388F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24778-0269-49E8-BE76-525DAB3A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B6591-0D63-4C70-A7B2-9E185A11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9575B-6866-4AFA-BD5A-5F8CCBDD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950400"/>
            <a:ext cx="821196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4EEC0-3965-4655-8881-BCD7A30E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575E7-FA39-4D00-B40C-4F6898D7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1F42-84DF-4792-B30D-FAC33FE4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5138A-4846-4411-BD99-267AB0D4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B685B-2EE5-4E51-ABAF-2696D0B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296640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8F9ED-BF2A-46B8-AE01-BA2EB5C1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529E0-54F6-4AD4-8EF7-70885F51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16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984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16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984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CA21D-7D23-46E0-853A-BD747B9DFA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C403-DD05-4610-BEFC-6136EF0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1B7C-AEB7-4642-89CA-8765D6B1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4AE5-FFC1-4FC9-9DD7-03C40933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950400"/>
            <a:ext cx="821196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F20A-34B8-4339-9DA2-EFC7CBD9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993D-A11C-4FF6-ABDE-9F0857F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FD22-A321-4D73-B5DA-5922943B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8339-6BE5-49B1-A0A3-B765137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1608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2/06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67120"/>
            <a:ext cx="211608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6B8A5-D2D5-48A1-BAD6-96F63331DBEA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8400"/>
            <a:ext cx="77547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4767120"/>
            <a:ext cx="211608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22/06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4767120"/>
            <a:ext cx="211608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4727E7-C2CD-4171-A592-EB4C28BADF20}" type="slidenum">
              <a:rPr b="0" lang="it-IT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20348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619280" y="1492200"/>
            <a:ext cx="7313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262699"/>
                </a:solidFill>
                <a:latin typeface="Arial"/>
              </a:rPr>
              <a:t>Message in a bottle: how to communicate macro-regional strategies -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262699"/>
                </a:solidFill>
                <a:latin typeface="Arial"/>
              </a:rPr>
              <a:t>EUSALP Communication strateg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908000" y="4156200"/>
            <a:ext cx="721080" cy="57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431640" y="4272120"/>
            <a:ext cx="1224000" cy="34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916360" y="3076560"/>
            <a:ext cx="601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6ccff"/>
                </a:solidFill>
                <a:latin typeface="Arial"/>
              </a:rPr>
              <a:t>Annalisa Giac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66ccff"/>
                </a:solidFill>
                <a:latin typeface="Arial"/>
              </a:rPr>
              <a:t>Project manager AlpGov WPC, ERSAF Communication sta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588000" y="3724200"/>
            <a:ext cx="22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92d050"/>
                </a:solidFill>
                <a:latin typeface="Arial"/>
              </a:rPr>
              <a:t>Izola, 18.09.20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ttangolo 2"/>
          <p:cNvSpPr/>
          <p:nvPr/>
        </p:nvSpPr>
        <p:spPr>
          <a:xfrm>
            <a:off x="2771640" y="116208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22228b"/>
                </a:solidFill>
                <a:latin typeface="Arial"/>
              </a:rPr>
              <a:t>Gover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ttangolo 4"/>
          <p:cNvSpPr/>
          <p:nvPr/>
        </p:nvSpPr>
        <p:spPr>
          <a:xfrm>
            <a:off x="4284720" y="2139840"/>
            <a:ext cx="43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Lack of a joint political vision about EUSALP, focused target audiences, key tools and channe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Editor are  not professional communicators and they do not have time to be concentrated on 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Long decision-making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ttangolo 5"/>
          <p:cNvSpPr/>
          <p:nvPr/>
        </p:nvSpPr>
        <p:spPr>
          <a:xfrm>
            <a:off x="4373640" y="19512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2. 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Risultati immagini per emoticon"/>
          <p:cNvPicPr/>
          <p:nvPr/>
        </p:nvPicPr>
        <p:blipFill>
          <a:blip r:embed="rId1"/>
          <a:stretch/>
        </p:blipFill>
        <p:spPr>
          <a:xfrm>
            <a:off x="971640" y="1036800"/>
            <a:ext cx="1512720" cy="958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Risultati immagini per emoticon"/>
          <p:cNvPicPr/>
          <p:nvPr/>
        </p:nvPicPr>
        <p:blipFill>
          <a:blip r:embed="rId2"/>
          <a:stretch/>
        </p:blipFill>
        <p:spPr>
          <a:xfrm>
            <a:off x="6732720" y="1074600"/>
            <a:ext cx="1261800" cy="917640"/>
          </a:xfrm>
          <a:prstGeom prst="rect">
            <a:avLst/>
          </a:prstGeom>
          <a:ln w="0">
            <a:noFill/>
          </a:ln>
        </p:spPr>
      </p:pic>
      <p:sp>
        <p:nvSpPr>
          <p:cNvPr id="179" name="Rettangolo 7"/>
          <p:cNvSpPr/>
          <p:nvPr/>
        </p:nvSpPr>
        <p:spPr>
          <a:xfrm>
            <a:off x="317520" y="2290680"/>
            <a:ext cx="3246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7f7f7f"/>
                </a:solidFill>
                <a:latin typeface="Arial"/>
              </a:rPr>
              <a:t>Good cooperatio</a:t>
            </a: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n between Communication Staff and Edito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7f7f7f"/>
                </a:solidFill>
                <a:latin typeface="Arial"/>
              </a:rPr>
              <a:t>A regulated process for ma</a:t>
            </a: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naging  the daily requests coming from A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ttangolo 3"/>
          <p:cNvSpPr/>
          <p:nvPr/>
        </p:nvSpPr>
        <p:spPr>
          <a:xfrm>
            <a:off x="4859280" y="1924200"/>
            <a:ext cx="37782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Need to map the target audienc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Barriers to effectively reach out stakeholders and citize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Slow transition from institutional to effective commun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ttangolo 5"/>
          <p:cNvSpPr/>
          <p:nvPr/>
        </p:nvSpPr>
        <p:spPr>
          <a:xfrm>
            <a:off x="2916360" y="86688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22228b"/>
                </a:solidFill>
                <a:latin typeface="Arial"/>
              </a:rPr>
              <a:t>Con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Risultati immagini per emoticon"/>
          <p:cNvPicPr/>
          <p:nvPr/>
        </p:nvPicPr>
        <p:blipFill>
          <a:blip r:embed="rId1"/>
          <a:stretch/>
        </p:blipFill>
        <p:spPr>
          <a:xfrm>
            <a:off x="971640" y="841320"/>
            <a:ext cx="1512720" cy="95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Risultati immagini per emoticon"/>
          <p:cNvPicPr/>
          <p:nvPr/>
        </p:nvPicPr>
        <p:blipFill>
          <a:blip r:embed="rId2"/>
          <a:stretch/>
        </p:blipFill>
        <p:spPr>
          <a:xfrm>
            <a:off x="6732720" y="879480"/>
            <a:ext cx="1261800" cy="917640"/>
          </a:xfrm>
          <a:prstGeom prst="rect">
            <a:avLst/>
          </a:prstGeom>
          <a:ln w="0">
            <a:noFill/>
          </a:ln>
        </p:spPr>
      </p:pic>
      <p:sp>
        <p:nvSpPr>
          <p:cNvPr id="184" name="Rettangolo 8"/>
          <p:cNvSpPr/>
          <p:nvPr/>
        </p:nvSpPr>
        <p:spPr>
          <a:xfrm>
            <a:off x="611280" y="1995480"/>
            <a:ext cx="32734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Differe</a:t>
            </a: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nt sectors involved (agricolture, food, mobility) with an high potential of civil engagement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High level </a:t>
            </a: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of i</a:t>
            </a: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nterest for project conten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ttangolo 5"/>
          <p:cNvSpPr/>
          <p:nvPr/>
        </p:nvSpPr>
        <p:spPr>
          <a:xfrm>
            <a:off x="4373640" y="19512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2. 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ttangolo 3"/>
          <p:cNvSpPr/>
          <p:nvPr/>
        </p:nvSpPr>
        <p:spPr>
          <a:xfrm>
            <a:off x="4356000" y="1800360"/>
            <a:ext cx="4603680" cy="27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Need to define key policy message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Lack of knowledge of local territories and specific stories to make communication more real and concre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Difficulties in </a:t>
            </a: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reachi</a:t>
            </a: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ng</a:t>
            </a: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 a wider audience (citizens a</a:t>
            </a: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nd young people) emphasizing “attracting topics” </a:t>
            </a: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related to EUSAL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ttangolo 5"/>
          <p:cNvSpPr/>
          <p:nvPr/>
        </p:nvSpPr>
        <p:spPr>
          <a:xfrm>
            <a:off x="2916360" y="100008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22228b"/>
                </a:solidFill>
                <a:latin typeface="Arial"/>
              </a:rPr>
              <a:t>Con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Risultati immagini per emoticon"/>
          <p:cNvPicPr/>
          <p:nvPr/>
        </p:nvPicPr>
        <p:blipFill>
          <a:blip r:embed="rId1"/>
          <a:stretch/>
        </p:blipFill>
        <p:spPr>
          <a:xfrm>
            <a:off x="971640" y="841320"/>
            <a:ext cx="1512720" cy="959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Risultati immagini per emoticon"/>
          <p:cNvPicPr/>
          <p:nvPr/>
        </p:nvPicPr>
        <p:blipFill>
          <a:blip r:embed="rId2"/>
          <a:stretch/>
        </p:blipFill>
        <p:spPr>
          <a:xfrm>
            <a:off x="6732720" y="879480"/>
            <a:ext cx="1261800" cy="917640"/>
          </a:xfrm>
          <a:prstGeom prst="rect">
            <a:avLst/>
          </a:prstGeom>
          <a:ln w="0">
            <a:noFill/>
          </a:ln>
        </p:spPr>
      </p:pic>
      <p:sp>
        <p:nvSpPr>
          <p:cNvPr id="190" name="Rettangolo 8"/>
          <p:cNvSpPr/>
          <p:nvPr/>
        </p:nvSpPr>
        <p:spPr>
          <a:xfrm>
            <a:off x="250920" y="1809720"/>
            <a:ext cx="3673440" cy="26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Platform of knowledge (PO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Successful newslett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Social media channels activated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Joint training to communicate specific issues and to establish stronger links with the working group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ttangolo 5"/>
          <p:cNvSpPr/>
          <p:nvPr/>
        </p:nvSpPr>
        <p:spPr>
          <a:xfrm>
            <a:off x="4373640" y="19512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2. 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777960" y="1563840"/>
            <a:ext cx="8402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Who we are and what we have done until now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Lessons learned: points of strength and weaknes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700" spc="-1" strike="noStrike">
                <a:solidFill>
                  <a:srgbClr val="c00000"/>
                </a:solidFill>
                <a:latin typeface="Roboto"/>
              </a:rPr>
              <a:t>How to improve our performance: our plans for the futur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e 4"/>
          <p:cNvSpPr/>
          <p:nvPr/>
        </p:nvSpPr>
        <p:spPr>
          <a:xfrm>
            <a:off x="395280" y="163512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e 8"/>
          <p:cNvSpPr/>
          <p:nvPr/>
        </p:nvSpPr>
        <p:spPr>
          <a:xfrm>
            <a:off x="395280" y="221148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e 9"/>
          <p:cNvSpPr/>
          <p:nvPr/>
        </p:nvSpPr>
        <p:spPr>
          <a:xfrm>
            <a:off x="395280" y="278748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ttangolo 7"/>
          <p:cNvSpPr/>
          <p:nvPr/>
        </p:nvSpPr>
        <p:spPr>
          <a:xfrm>
            <a:off x="2340000" y="1779480"/>
            <a:ext cx="6408720" cy="4320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ttangolo 1"/>
          <p:cNvSpPr/>
          <p:nvPr/>
        </p:nvSpPr>
        <p:spPr>
          <a:xfrm>
            <a:off x="1619280" y="1131840"/>
            <a:ext cx="7124760" cy="4320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4572000" y="50760"/>
            <a:ext cx="4392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3. Next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asellaDiTesto 1"/>
          <p:cNvSpPr/>
          <p:nvPr/>
        </p:nvSpPr>
        <p:spPr>
          <a:xfrm>
            <a:off x="304920" y="2500200"/>
            <a:ext cx="45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c00000"/>
                </a:solidFill>
                <a:latin typeface="Arial"/>
              </a:rPr>
              <a:t>From problems to solu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ttangolo 8"/>
          <p:cNvSpPr/>
          <p:nvPr/>
        </p:nvSpPr>
        <p:spPr>
          <a:xfrm>
            <a:off x="4643280" y="2500200"/>
            <a:ext cx="4105440" cy="107964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Rettangolo 4" descr=""/>
          <p:cNvPicPr/>
          <p:nvPr/>
        </p:nvPicPr>
        <p:blipFill>
          <a:blip r:embed="rId1"/>
          <a:stretch/>
        </p:blipFill>
        <p:spPr>
          <a:xfrm>
            <a:off x="1511280" y="1176480"/>
            <a:ext cx="724860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ma 8" descr=""/>
          <p:cNvPicPr/>
          <p:nvPr/>
        </p:nvPicPr>
        <p:blipFill>
          <a:blip r:embed="rId1"/>
          <a:stretch/>
        </p:blipFill>
        <p:spPr>
          <a:xfrm>
            <a:off x="152280" y="1060560"/>
            <a:ext cx="8680680" cy="2182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"/>
          <p:cNvSpPr/>
          <p:nvPr/>
        </p:nvSpPr>
        <p:spPr>
          <a:xfrm>
            <a:off x="4427640" y="123840"/>
            <a:ext cx="43923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3. Next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CasellaDiTesto 11"/>
          <p:cNvSpPr/>
          <p:nvPr/>
        </p:nvSpPr>
        <p:spPr>
          <a:xfrm>
            <a:off x="465120" y="3243240"/>
            <a:ext cx="25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23-24 October 2018 Workshop on Communication Strategy- Innsb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CasellaDiTesto 12"/>
          <p:cNvSpPr/>
          <p:nvPr/>
        </p:nvSpPr>
        <p:spPr>
          <a:xfrm>
            <a:off x="2987640" y="32688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20-21 November 2018 Annual Forum-Innsb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asellaDiTesto 14"/>
          <p:cNvSpPr/>
          <p:nvPr/>
        </p:nvSpPr>
        <p:spPr>
          <a:xfrm>
            <a:off x="5742000" y="32688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Within January/February 20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CasellaDiTesto 6"/>
          <p:cNvSpPr/>
          <p:nvPr/>
        </p:nvSpPr>
        <p:spPr>
          <a:xfrm>
            <a:off x="684360" y="793800"/>
            <a:ext cx="77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Our strategy for the next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e 1"/>
          <p:cNvSpPr/>
          <p:nvPr/>
        </p:nvSpPr>
        <p:spPr>
          <a:xfrm>
            <a:off x="6012000" y="1317600"/>
            <a:ext cx="2736720" cy="16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4689360" y="230040"/>
            <a:ext cx="4392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3. Next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ttangolo 3"/>
          <p:cNvSpPr/>
          <p:nvPr/>
        </p:nvSpPr>
        <p:spPr>
          <a:xfrm>
            <a:off x="404640" y="7714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22228b"/>
                </a:solidFill>
                <a:latin typeface="Arial"/>
              </a:rPr>
              <a:t>STEP 3: NEW PROCUREMENT PROCEDURE FOR AN EXPERT TEAM  SEL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ccia circolare a destra 4"/>
          <p:cNvSpPr/>
          <p:nvPr/>
        </p:nvSpPr>
        <p:spPr>
          <a:xfrm>
            <a:off x="468360" y="1833480"/>
            <a:ext cx="2176560" cy="2538360"/>
          </a:xfrm>
          <a:custGeom>
            <a:avLst/>
            <a:gdLst>
              <a:gd name="textAreaLeft" fmla="*/ 291600 w 2176560"/>
              <a:gd name="textAreaRight" fmla="*/ 1884960 w 2176560"/>
              <a:gd name="textAreaTop" fmla="*/ 430560 h 2538360"/>
              <a:gd name="textAreaBottom" fmla="*/ 1836000 h 25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28" stAng="-5400000" swAng="-5400000"/>
                <a:lnTo>
                  <a:pt x="0" y="11958"/>
                </a:lnTo>
                <a:arcTo wR="21600" hR="7328" stAng="10800000" swAng="-3163474"/>
                <a:lnTo>
                  <a:pt x="16200" y="21367"/>
                </a:lnTo>
                <a:lnTo>
                  <a:pt x="21600" y="16970"/>
                </a:lnTo>
                <a:lnTo>
                  <a:pt x="16200" y="12107"/>
                </a:lnTo>
                <a:lnTo>
                  <a:pt x="16200" y="14422"/>
                </a:lnTo>
                <a:arcTo wR="21600" hR="7328" stAng="7636526" swAng="2776780"/>
                <a:lnTo>
                  <a:pt x="1106" y="9643"/>
                </a:lnTo>
                <a:arcTo wR="21600" hR="7328" stAng="-10413306" swAng="5013306"/>
                <a:close/>
              </a:path>
              <a:path fill="darkenLess" w="21600" h="21600">
                <a:moveTo>
                  <a:pt x="21600" y="0"/>
                </a:moveTo>
                <a:arcTo wR="21600" hR="7328" stAng="-5400000" swAng="-5400000"/>
                <a:lnTo>
                  <a:pt x="0" y="7328"/>
                </a:lnTo>
                <a:arcTo wR="21600" hR="7328" stAng="10800000" swAng="-386694"/>
                <a:lnTo>
                  <a:pt x="1106" y="9643"/>
                </a:lnTo>
                <a:arcTo wR="21600" hR="7328" stAng="-10413306" swAng="5013306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CasellaDiTesto 5"/>
          <p:cNvSpPr/>
          <p:nvPr/>
        </p:nvSpPr>
        <p:spPr>
          <a:xfrm>
            <a:off x="539640" y="2427120"/>
            <a:ext cx="2851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000" spc="-1" strike="noStrike">
                <a:solidFill>
                  <a:srgbClr val="c00000"/>
                </a:solidFill>
                <a:latin typeface="Arial"/>
              </a:rPr>
              <a:t>In which direc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ttangolo 7"/>
          <p:cNvSpPr/>
          <p:nvPr/>
        </p:nvSpPr>
        <p:spPr>
          <a:xfrm>
            <a:off x="3059280" y="1487520"/>
            <a:ext cx="5833800" cy="3403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To ide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ti</a:t>
            </a: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fy 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ew Editorial team responsible for communication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o identify and collect project contents through direct meetings with all the AG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o gather information and data about events and case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o directly interview testimonials and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To produce storyte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Social media strenghthe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1332000" y="1563840"/>
            <a:ext cx="64483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4586"/>
                </a:solidFill>
                <a:latin typeface="Roboto"/>
              </a:rPr>
              <a:t>THANK YOU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999999"/>
                </a:solidFill>
                <a:latin typeface="Roboto"/>
              </a:rPr>
              <a:t>EUSALP – EU Strategy for the Alpine Reg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84d1"/>
                </a:solidFill>
                <a:latin typeface="Roboto"/>
              </a:rPr>
              <a:t>www.alpine-region.e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999999"/>
                </a:solidFill>
                <a:latin typeface="Roboto"/>
              </a:rPr>
              <a:t>Communication sta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84d1"/>
                </a:solidFill>
                <a:latin typeface="Roboto"/>
              </a:rPr>
              <a:t>ag1leader.communication.staff@alpine-region.e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31640" y="4272120"/>
            <a:ext cx="1224000" cy="344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1908000" y="4156200"/>
            <a:ext cx="72108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77960" y="1276200"/>
            <a:ext cx="78264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700" spc="-1" strike="noStrike">
                <a:solidFill>
                  <a:srgbClr val="c00000"/>
                </a:solidFill>
                <a:latin typeface="Roboto"/>
              </a:rPr>
              <a:t>Who we are and what we have done until now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Lessons learned about EUSALP Communication: points of strength and weaknes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How to improve our performance: next steps for the futur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e 4"/>
          <p:cNvSpPr/>
          <p:nvPr/>
        </p:nvSpPr>
        <p:spPr>
          <a:xfrm>
            <a:off x="395280" y="134784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e 8"/>
          <p:cNvSpPr/>
          <p:nvPr/>
        </p:nvSpPr>
        <p:spPr>
          <a:xfrm>
            <a:off x="395280" y="192420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e 9"/>
          <p:cNvSpPr/>
          <p:nvPr/>
        </p:nvSpPr>
        <p:spPr>
          <a:xfrm>
            <a:off x="395280" y="307512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ottotitolo 3"/>
          <p:cNvSpPr/>
          <p:nvPr/>
        </p:nvSpPr>
        <p:spPr>
          <a:xfrm>
            <a:off x="223920" y="2249640"/>
            <a:ext cx="35272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ERSAF Communication Staff is a </a:t>
            </a:r>
            <a:r>
              <a:rPr b="1" lang="it-IT" sz="1600" spc="-1" strike="noStrike">
                <a:solidFill>
                  <a:srgbClr val="c00000"/>
                </a:solidFill>
                <a:latin typeface="Calibri"/>
              </a:rPr>
              <a:t>coordination point</a:t>
            </a: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 for communication activities and receives contents from the Editors and the single A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3780000" y="816120"/>
            <a:ext cx="5133960" cy="3105000"/>
          </a:xfrm>
          <a:prstGeom prst="rect">
            <a:avLst/>
          </a:prstGeom>
          <a:ln w="0">
            <a:noFill/>
          </a:ln>
        </p:spPr>
      </p:pic>
      <p:sp>
        <p:nvSpPr>
          <p:cNvPr id="110" name="Sottotitolo 3"/>
          <p:cNvSpPr/>
          <p:nvPr/>
        </p:nvSpPr>
        <p:spPr>
          <a:xfrm>
            <a:off x="236520" y="3546360"/>
            <a:ext cx="352728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Actually The Communication Staff mainly interacts with </a:t>
            </a:r>
            <a:r>
              <a:rPr b="1" lang="it-IT" sz="1600" spc="-1" strike="noStrike">
                <a:solidFill>
                  <a:srgbClr val="c00000"/>
                </a:solidFill>
                <a:latin typeface="Calibri"/>
              </a:rPr>
              <a:t>Editors</a:t>
            </a: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,  from General Assembly, Annual Presidency, Observers, executive Boards and Action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ttangolo 1"/>
          <p:cNvSpPr/>
          <p:nvPr/>
        </p:nvSpPr>
        <p:spPr>
          <a:xfrm>
            <a:off x="5724360" y="2543040"/>
            <a:ext cx="1440000" cy="46044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mmunication Sta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182760" y="50760"/>
            <a:ext cx="57312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The Communication Staff: who w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ottotitolo 3"/>
          <p:cNvSpPr/>
          <p:nvPr/>
        </p:nvSpPr>
        <p:spPr>
          <a:xfrm>
            <a:off x="270000" y="915840"/>
            <a:ext cx="37256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ERSAF is </a:t>
            </a:r>
            <a:r>
              <a:rPr b="1" lang="it-IT" sz="1600" spc="-1" strike="noStrike">
                <a:solidFill>
                  <a:srgbClr val="c00000"/>
                </a:solidFill>
                <a:latin typeface="Calibri"/>
              </a:rPr>
              <a:t>an operative  Agency of Regione Lombardia</a:t>
            </a:r>
            <a:r>
              <a:rPr b="1" lang="en-US" sz="1600" spc="-1" strike="noStrike">
                <a:solidFill>
                  <a:srgbClr val="25390f"/>
                </a:solidFill>
                <a:latin typeface="Calibri"/>
              </a:rPr>
              <a:t>, in charge of carrying out communication and promotional activities for the development of the agricultural sectors and the rural territo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12"/>
          <p:cNvSpPr/>
          <p:nvPr/>
        </p:nvSpPr>
        <p:spPr>
          <a:xfrm>
            <a:off x="268200" y="811080"/>
            <a:ext cx="8658360" cy="400320"/>
          </a:xfrm>
          <a:prstGeom prst="rect">
            <a:avLst/>
          </a:prstGeom>
          <a:solidFill>
            <a:srgbClr val="f2f2f2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ttangolo 1"/>
          <p:cNvSpPr/>
          <p:nvPr/>
        </p:nvSpPr>
        <p:spPr>
          <a:xfrm>
            <a:off x="4932360" y="159372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Roboto"/>
              </a:rPr>
              <a:t>What to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Roboto"/>
              </a:rPr>
              <a:t> </a:t>
            </a:r>
            <a:r>
              <a:rPr b="1" lang="en-US" sz="2400" spc="-1" strike="noStrike">
                <a:solidFill>
                  <a:srgbClr val="22228b"/>
                </a:solidFill>
                <a:latin typeface="Roboto"/>
              </a:rPr>
              <a:t>To whom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Roboto"/>
              </a:rPr>
              <a:t>How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tangolo 3"/>
          <p:cNvSpPr/>
          <p:nvPr/>
        </p:nvSpPr>
        <p:spPr>
          <a:xfrm>
            <a:off x="-1983240" y="819000"/>
            <a:ext cx="12108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7f7f7f"/>
                </a:solidFill>
                <a:latin typeface="Roboto"/>
              </a:rPr>
              <a:t>In September 2017, ERSAF delivered a Draft document of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Rettangolo 2"/>
          <p:cNvGrpSpPr/>
          <p:nvPr/>
        </p:nvGrpSpPr>
        <p:grpSpPr>
          <a:xfrm>
            <a:off x="414360" y="1682640"/>
            <a:ext cx="4236840" cy="901800"/>
            <a:chOff x="414360" y="1682640"/>
            <a:chExt cx="4236840" cy="901800"/>
          </a:xfrm>
        </p:grpSpPr>
        <p:pic>
          <p:nvPicPr>
            <p:cNvPr id="118" name="Rettangolo 2" descr=""/>
            <p:cNvPicPr/>
            <p:nvPr/>
          </p:nvPicPr>
          <p:blipFill>
            <a:blip r:embed="rId1"/>
            <a:stretch/>
          </p:blipFill>
          <p:spPr>
            <a:xfrm>
              <a:off x="414360" y="1682640"/>
              <a:ext cx="42368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8360" y="1714680"/>
              <a:ext cx="4129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Text Box 2"/>
          <p:cNvSpPr/>
          <p:nvPr/>
        </p:nvSpPr>
        <p:spPr>
          <a:xfrm>
            <a:off x="706320" y="1668600"/>
            <a:ext cx="38912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boto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EUSALP Communication Strategy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for the period Ja</a:t>
            </a:r>
            <a:r>
              <a:rPr b="1" lang="en-GB" sz="2400" spc="-1" strike="noStrike">
                <a:solidFill>
                  <a:srgbClr val="ffffff"/>
                </a:solidFill>
                <a:latin typeface="Roboto"/>
              </a:rPr>
              <a:t>nuary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2016 to June 20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ccia a destra 4"/>
          <p:cNvSpPr/>
          <p:nvPr/>
        </p:nvSpPr>
        <p:spPr>
          <a:xfrm>
            <a:off x="4964040" y="1930320"/>
            <a:ext cx="21744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268200" y="3009960"/>
            <a:ext cx="21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11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Three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tangolo 5"/>
          <p:cNvSpPr/>
          <p:nvPr/>
        </p:nvSpPr>
        <p:spPr>
          <a:xfrm>
            <a:off x="382680" y="1562040"/>
            <a:ext cx="8550360" cy="1096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ccia a destra 10"/>
          <p:cNvSpPr/>
          <p:nvPr/>
        </p:nvSpPr>
        <p:spPr>
          <a:xfrm>
            <a:off x="2386080" y="3076560"/>
            <a:ext cx="218880" cy="35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Diagramma 6" descr=""/>
          <p:cNvPicPr/>
          <p:nvPr/>
        </p:nvPicPr>
        <p:blipFill>
          <a:blip r:embed="rId2"/>
          <a:stretch/>
        </p:blipFill>
        <p:spPr>
          <a:xfrm>
            <a:off x="2603520" y="2498760"/>
            <a:ext cx="6138720" cy="1731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"/>
          <p:cNvSpPr/>
          <p:nvPr/>
        </p:nvSpPr>
        <p:spPr>
          <a:xfrm>
            <a:off x="3780000" y="158760"/>
            <a:ext cx="513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 What we have done until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ttangolo 7"/>
          <p:cNvSpPr/>
          <p:nvPr/>
        </p:nvSpPr>
        <p:spPr>
          <a:xfrm>
            <a:off x="179280" y="771480"/>
            <a:ext cx="8929800" cy="399960"/>
          </a:xfrm>
          <a:prstGeom prst="rect">
            <a:avLst/>
          </a:prstGeom>
          <a:solidFill>
            <a:srgbClr val="f2f2f2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79280" y="700200"/>
            <a:ext cx="8801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300" spc="-1" strike="noStrike">
                <a:solidFill>
                  <a:srgbClr val="7f7f7f"/>
                </a:solidFill>
                <a:latin typeface="Roboto"/>
              </a:rPr>
              <a:t>All our daily activities are based upon 7pillars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Diagramma 1" descr=""/>
          <p:cNvPicPr/>
          <p:nvPr/>
        </p:nvPicPr>
        <p:blipFill>
          <a:blip r:embed="rId1"/>
          <a:stretch/>
        </p:blipFill>
        <p:spPr>
          <a:xfrm>
            <a:off x="201600" y="1347840"/>
            <a:ext cx="4157640" cy="3309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"/>
          <p:cNvSpPr/>
          <p:nvPr/>
        </p:nvSpPr>
        <p:spPr>
          <a:xfrm>
            <a:off x="3780000" y="158760"/>
            <a:ext cx="513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 What we have done until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Croce 2"/>
          <p:cNvSpPr/>
          <p:nvPr/>
        </p:nvSpPr>
        <p:spPr>
          <a:xfrm>
            <a:off x="4282920" y="2336760"/>
            <a:ext cx="576360" cy="432000"/>
          </a:xfrm>
          <a:custGeom>
            <a:avLst/>
            <a:gdLst/>
            <a:ahLst/>
            <a:rect l="l" t="t" r="r" b="b"/>
            <a:pathLst>
              <a:path w="576263" h="431800">
                <a:moveTo>
                  <a:pt x="76384" y="165120"/>
                </a:moveTo>
                <a:lnTo>
                  <a:pt x="237352" y="165120"/>
                </a:lnTo>
                <a:lnTo>
                  <a:pt x="237352" y="57235"/>
                </a:lnTo>
                <a:lnTo>
                  <a:pt x="338911" y="57235"/>
                </a:lnTo>
                <a:lnTo>
                  <a:pt x="338911" y="165120"/>
                </a:lnTo>
                <a:lnTo>
                  <a:pt x="499879" y="165120"/>
                </a:lnTo>
                <a:lnTo>
                  <a:pt x="499879" y="266680"/>
                </a:lnTo>
                <a:lnTo>
                  <a:pt x="338911" y="266680"/>
                </a:lnTo>
                <a:lnTo>
                  <a:pt x="338911" y="374565"/>
                </a:lnTo>
                <a:lnTo>
                  <a:pt x="237352" y="374565"/>
                </a:lnTo>
                <a:lnTo>
                  <a:pt x="237352" y="266680"/>
                </a:lnTo>
                <a:lnTo>
                  <a:pt x="76384" y="266680"/>
                </a:lnTo>
                <a:lnTo>
                  <a:pt x="76384" y="165120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2323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Risultati immagini per social network"/>
          <p:cNvPicPr/>
          <p:nvPr/>
        </p:nvPicPr>
        <p:blipFill>
          <a:blip r:embed="rId2"/>
          <a:stretch/>
        </p:blipFill>
        <p:spPr>
          <a:xfrm>
            <a:off x="4792680" y="1930320"/>
            <a:ext cx="1719360" cy="1289160"/>
          </a:xfrm>
          <a:prstGeom prst="rect">
            <a:avLst/>
          </a:prstGeom>
          <a:ln w="0">
            <a:noFill/>
          </a:ln>
        </p:spPr>
      </p:pic>
      <p:sp>
        <p:nvSpPr>
          <p:cNvPr id="135" name="Sottotitolo 3"/>
          <p:cNvSpPr/>
          <p:nvPr/>
        </p:nvSpPr>
        <p:spPr>
          <a:xfrm>
            <a:off x="6588000" y="1544760"/>
            <a:ext cx="21909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500" spc="-1" strike="noStrike">
                <a:solidFill>
                  <a:srgbClr val="898989"/>
                </a:solidFill>
                <a:latin typeface="Calibri"/>
              </a:rPr>
              <a:t>The Communication Staff is the social media manager (on the basis of the Editors’ content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asellaDiTesto 8"/>
          <p:cNvSpPr/>
          <p:nvPr/>
        </p:nvSpPr>
        <p:spPr>
          <a:xfrm>
            <a:off x="229680" y="147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asellaDiTesto 18"/>
          <p:cNvSpPr/>
          <p:nvPr/>
        </p:nvSpPr>
        <p:spPr>
          <a:xfrm>
            <a:off x="542520" y="192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asellaDiTesto 19"/>
          <p:cNvSpPr/>
          <p:nvPr/>
        </p:nvSpPr>
        <p:spPr>
          <a:xfrm>
            <a:off x="686880" y="2408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CasellaDiTesto 20"/>
          <p:cNvSpPr/>
          <p:nvPr/>
        </p:nvSpPr>
        <p:spPr>
          <a:xfrm>
            <a:off x="710640" y="276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CasellaDiTesto 21"/>
          <p:cNvSpPr/>
          <p:nvPr/>
        </p:nvSpPr>
        <p:spPr>
          <a:xfrm>
            <a:off x="686880" y="326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sellaDiTesto 22"/>
          <p:cNvSpPr/>
          <p:nvPr/>
        </p:nvSpPr>
        <p:spPr>
          <a:xfrm>
            <a:off x="516960" y="372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CasellaDiTesto 23"/>
          <p:cNvSpPr/>
          <p:nvPr/>
        </p:nvSpPr>
        <p:spPr>
          <a:xfrm>
            <a:off x="275760" y="415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82440" y="639720"/>
            <a:ext cx="4550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EUSALP Website statis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(Ja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uary-August  2018</a:t>
            </a: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93600" y="4067280"/>
            <a:ext cx="4694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ttangolo 2"/>
          <p:cNvSpPr/>
          <p:nvPr/>
        </p:nvSpPr>
        <p:spPr>
          <a:xfrm>
            <a:off x="460440" y="1276200"/>
            <a:ext cx="3287520" cy="550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500" spc="-1" strike="noStrike">
                <a:solidFill>
                  <a:srgbClr val="ffffff"/>
                </a:solidFill>
                <a:latin typeface="Arial"/>
              </a:rPr>
              <a:t>Number  of users and average session duration</a:t>
            </a: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ttangolo 3"/>
          <p:cNvSpPr/>
          <p:nvPr/>
        </p:nvSpPr>
        <p:spPr>
          <a:xfrm>
            <a:off x="460440" y="4067280"/>
            <a:ext cx="47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ach visit lasts on average more than 4 minu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4" descr="C:\Users\progetti31\Desktop\Users.jpg"/>
          <p:cNvPicPr/>
          <p:nvPr/>
        </p:nvPicPr>
        <p:blipFill>
          <a:blip r:embed="rId1"/>
          <a:stretch/>
        </p:blipFill>
        <p:spPr>
          <a:xfrm>
            <a:off x="235080" y="1924200"/>
            <a:ext cx="2232000" cy="1247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C:\Users\progetti31\Desktop\Avg..jpg"/>
          <p:cNvPicPr/>
          <p:nvPr/>
        </p:nvPicPr>
        <p:blipFill>
          <a:blip r:embed="rId2"/>
          <a:stretch/>
        </p:blipFill>
        <p:spPr>
          <a:xfrm>
            <a:off x="2556000" y="2754360"/>
            <a:ext cx="2160360" cy="1257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"/>
          <p:cNvSpPr/>
          <p:nvPr/>
        </p:nvSpPr>
        <p:spPr>
          <a:xfrm>
            <a:off x="3780000" y="158760"/>
            <a:ext cx="513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 What we have done until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ttangolo 15"/>
          <p:cNvSpPr/>
          <p:nvPr/>
        </p:nvSpPr>
        <p:spPr>
          <a:xfrm>
            <a:off x="4788000" y="700200"/>
            <a:ext cx="4248000" cy="322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try channel to the si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ttangolo 21"/>
          <p:cNvSpPr/>
          <p:nvPr/>
        </p:nvSpPr>
        <p:spPr>
          <a:xfrm>
            <a:off x="4788000" y="3268800"/>
            <a:ext cx="4340160" cy="14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c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More than 7.100 visits come from free searches on Goog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c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More than 2.500 visits come from </a:t>
            </a:r>
            <a:r>
              <a:rPr b="1" lang="it-IT" sz="1500" spc="-1" strike="noStrike">
                <a:solidFill>
                  <a:srgbClr val="c00000"/>
                </a:solidFill>
                <a:latin typeface="Arial"/>
              </a:rPr>
              <a:t>people </a:t>
            </a: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 typing directly </a:t>
            </a:r>
            <a:r>
              <a:rPr b="1" lang="en-US" sz="1500" spc="-1" strike="noStrike">
                <a:solidFill>
                  <a:srgbClr val="66ccff"/>
                </a:solidFill>
                <a:latin typeface="Arial"/>
              </a:rPr>
              <a:t>www.alpine-region.e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c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5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nly 519 visits c</a:t>
            </a:r>
            <a:r>
              <a:rPr b="1" lang="it-IT" sz="1500" spc="-1" strike="noStrike">
                <a:solidFill>
                  <a:srgbClr val="c00000"/>
                </a:solidFill>
                <a:latin typeface="Arial"/>
              </a:rPr>
              <a:t>ome from social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network. This is an entry channel to be improv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5" descr=""/>
          <p:cNvPicPr/>
          <p:nvPr/>
        </p:nvPicPr>
        <p:blipFill>
          <a:blip r:embed="rId3"/>
          <a:stretch/>
        </p:blipFill>
        <p:spPr>
          <a:xfrm>
            <a:off x="5076720" y="1020600"/>
            <a:ext cx="39592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ttangolo 9"/>
          <p:cNvSpPr/>
          <p:nvPr/>
        </p:nvSpPr>
        <p:spPr>
          <a:xfrm>
            <a:off x="114480" y="770040"/>
            <a:ext cx="8850240" cy="649080"/>
          </a:xfrm>
          <a:prstGeom prst="rect">
            <a:avLst/>
          </a:prstGeom>
          <a:solidFill>
            <a:srgbClr val="f2f2f2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79520" y="868320"/>
            <a:ext cx="8124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-252360" y="1449360"/>
            <a:ext cx="3816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Roboto"/>
              </a:rPr>
              <a:t>  </a:t>
            </a:r>
            <a:r>
              <a:rPr b="1" lang="it-IT" sz="1800" spc="-1" strike="noStrike">
                <a:solidFill>
                  <a:srgbClr val="c00000"/>
                </a:solidFill>
                <a:latin typeface="Roboto"/>
              </a:rPr>
              <a:t>Newsletter 1 (August 20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Roboto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85760" y="620640"/>
            <a:ext cx="8850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898989"/>
                </a:solidFill>
                <a:latin typeface="Arial"/>
              </a:rPr>
              <a:t>EUSALP newsletters have been sent to more than </a:t>
            </a: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6.500 recipients in the 4 Alpine languages</a:t>
            </a:r>
            <a:r>
              <a:rPr b="1" lang="it-IT" sz="14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and English</a:t>
            </a:r>
            <a:r>
              <a:rPr b="1" lang="it-IT" sz="1400" spc="-1" strike="noStrike">
                <a:solidFill>
                  <a:srgbClr val="898989"/>
                </a:solidFill>
                <a:latin typeface="Arial"/>
              </a:rPr>
              <a:t>. The different versions of the newsletters are also published in the EUSALP websi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916360" y="1449360"/>
            <a:ext cx="3600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Roboto"/>
              </a:rPr>
              <a:t>Newsletter 2 (December 20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24360" y="1449360"/>
            <a:ext cx="324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Roboto"/>
              </a:rPr>
              <a:t>Newsletter 3 (June 201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4000" y="1836720"/>
          <a:ext cx="2862360" cy="2967120"/>
        </p:xfrm>
        <a:graphic>
          <a:graphicData uri="http://schemas.openxmlformats.org/drawingml/2006/table">
            <a:tbl>
              <a:tblPr/>
              <a:tblGrid>
                <a:gridCol w="865080"/>
                <a:gridCol w="1042920"/>
                <a:gridCol w="954360"/>
              </a:tblGrid>
              <a:tr h="57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ing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glis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l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7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loven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n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m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027240" y="1836720"/>
          <a:ext cx="2840040" cy="2967120"/>
        </p:xfrm>
        <a:graphic>
          <a:graphicData uri="http://schemas.openxmlformats.org/drawingml/2006/table">
            <a:tbl>
              <a:tblPr/>
              <a:tblGrid>
                <a:gridCol w="846360"/>
                <a:gridCol w="1047600"/>
                <a:gridCol w="946080"/>
              </a:tblGrid>
              <a:tr h="57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ing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glis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5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l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69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loven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n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m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989680" y="1789200"/>
          <a:ext cx="2975040" cy="3014640"/>
        </p:xfrm>
        <a:graphic>
          <a:graphicData uri="http://schemas.openxmlformats.org/drawingml/2006/table">
            <a:tbl>
              <a:tblPr/>
              <a:tblGrid>
                <a:gridCol w="863640"/>
                <a:gridCol w="1095120"/>
                <a:gridCol w="1016280"/>
              </a:tblGrid>
              <a:tr h="588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ing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7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glis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9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l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588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loven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1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n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m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9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1"/>
          <p:cNvSpPr/>
          <p:nvPr/>
        </p:nvSpPr>
        <p:spPr>
          <a:xfrm>
            <a:off x="3780000" y="158760"/>
            <a:ext cx="513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 What we have done until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777960" y="1563840"/>
            <a:ext cx="8402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Who we are and what we have done until now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700" spc="-1" strike="noStrike">
                <a:solidFill>
                  <a:srgbClr val="c00000"/>
                </a:solidFill>
                <a:latin typeface="Roboto"/>
              </a:rPr>
              <a:t>Lessons learned: points of strength and weaknes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How to improve our performance: our plan for the futur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e 4"/>
          <p:cNvSpPr/>
          <p:nvPr/>
        </p:nvSpPr>
        <p:spPr>
          <a:xfrm>
            <a:off x="395280" y="163512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e 8"/>
          <p:cNvSpPr/>
          <p:nvPr/>
        </p:nvSpPr>
        <p:spPr>
          <a:xfrm>
            <a:off x="395280" y="221148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e 9"/>
          <p:cNvSpPr/>
          <p:nvPr/>
        </p:nvSpPr>
        <p:spPr>
          <a:xfrm>
            <a:off x="395280" y="278748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iagramma 1" descr=""/>
          <p:cNvPicPr/>
          <p:nvPr/>
        </p:nvPicPr>
        <p:blipFill>
          <a:blip r:embed="rId1"/>
          <a:stretch/>
        </p:blipFill>
        <p:spPr>
          <a:xfrm>
            <a:off x="1401840" y="987480"/>
            <a:ext cx="6095880" cy="306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Risultati immagini per emoticon"/>
          <p:cNvPicPr/>
          <p:nvPr/>
        </p:nvPicPr>
        <p:blipFill>
          <a:blip r:embed="rId2"/>
          <a:stretch/>
        </p:blipFill>
        <p:spPr>
          <a:xfrm>
            <a:off x="900000" y="2197080"/>
            <a:ext cx="1511280" cy="959040"/>
          </a:xfrm>
          <a:prstGeom prst="rect">
            <a:avLst/>
          </a:prstGeom>
          <a:ln w="0">
            <a:noFill/>
          </a:ln>
        </p:spPr>
      </p:pic>
      <p:sp>
        <p:nvSpPr>
          <p:cNvPr id="171" name="CasellaDiTesto 2"/>
          <p:cNvSpPr/>
          <p:nvPr/>
        </p:nvSpPr>
        <p:spPr>
          <a:xfrm>
            <a:off x="766440" y="141912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What is working well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asellaDiTesto 10"/>
          <p:cNvSpPr/>
          <p:nvPr/>
        </p:nvSpPr>
        <p:spPr>
          <a:xfrm>
            <a:off x="6238440" y="14428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What is not working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Risultati immagini per emoticon"/>
          <p:cNvPicPr/>
          <p:nvPr/>
        </p:nvPicPr>
        <p:blipFill>
          <a:blip r:embed="rId3"/>
          <a:stretch/>
        </p:blipFill>
        <p:spPr>
          <a:xfrm>
            <a:off x="6888240" y="2217600"/>
            <a:ext cx="1262160" cy="91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Annalisa</cp:lastModifiedBy>
  <cp:lastPrinted>2018-06-22T08:12:44Z</cp:lastPrinted>
  <dcterms:modified xsi:type="dcterms:W3CDTF">2018-09-17T20:57:09Z</dcterms:modified>
  <cp:revision>182</cp:revision>
  <dc:subject/>
  <dc:title>Presentazione standard di PowerPoint</dc:title>
</cp:coreProperties>
</file>